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1314113" cy="8002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48B05-B37F-4CC6-B3A3-28A7BEAF0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849240" y="2666520"/>
            <a:ext cx="961704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28" name="PlaceHolder 3"/>
          <p:cNvSpPr>
            <a:spLocks noGrp="1"/>
          </p:cNvSpPr>
          <p:nvPr>
            <p:ph/>
          </p:nvPr>
        </p:nvSpPr>
        <p:spPr>
          <a:xfrm>
            <a:off x="849240" y="5034960"/>
            <a:ext cx="961704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69F88-B43D-4377-8431-FE5F5F501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84924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31" name="PlaceHolder 3"/>
          <p:cNvSpPr>
            <a:spLocks noGrp="1"/>
          </p:cNvSpPr>
          <p:nvPr>
            <p:ph/>
          </p:nvPr>
        </p:nvSpPr>
        <p:spPr>
          <a:xfrm>
            <a:off x="577728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32" name="PlaceHolder 4"/>
          <p:cNvSpPr>
            <a:spLocks noGrp="1"/>
          </p:cNvSpPr>
          <p:nvPr>
            <p:ph/>
          </p:nvPr>
        </p:nvSpPr>
        <p:spPr>
          <a:xfrm>
            <a:off x="849240" y="503496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33" name="PlaceHolder 5"/>
          <p:cNvSpPr>
            <a:spLocks noGrp="1"/>
          </p:cNvSpPr>
          <p:nvPr>
            <p:ph/>
          </p:nvPr>
        </p:nvSpPr>
        <p:spPr>
          <a:xfrm>
            <a:off x="5777280" y="503496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A5C33-621D-491A-9C1D-ED049A503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849240" y="266652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36" name="PlaceHolder 3"/>
          <p:cNvSpPr>
            <a:spLocks noGrp="1"/>
          </p:cNvSpPr>
          <p:nvPr>
            <p:ph/>
          </p:nvPr>
        </p:nvSpPr>
        <p:spPr>
          <a:xfrm>
            <a:off x="4100760" y="266652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37" name="PlaceHolder 4"/>
          <p:cNvSpPr>
            <a:spLocks noGrp="1"/>
          </p:cNvSpPr>
          <p:nvPr>
            <p:ph/>
          </p:nvPr>
        </p:nvSpPr>
        <p:spPr>
          <a:xfrm>
            <a:off x="7352280" y="266652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38" name="PlaceHolder 5"/>
          <p:cNvSpPr>
            <a:spLocks noGrp="1"/>
          </p:cNvSpPr>
          <p:nvPr>
            <p:ph/>
          </p:nvPr>
        </p:nvSpPr>
        <p:spPr>
          <a:xfrm>
            <a:off x="849240" y="503496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39" name="PlaceHolder 6"/>
          <p:cNvSpPr>
            <a:spLocks noGrp="1"/>
          </p:cNvSpPr>
          <p:nvPr>
            <p:ph/>
          </p:nvPr>
        </p:nvSpPr>
        <p:spPr>
          <a:xfrm>
            <a:off x="4100760" y="503496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40" name="PlaceHolder 7"/>
          <p:cNvSpPr>
            <a:spLocks noGrp="1"/>
          </p:cNvSpPr>
          <p:nvPr>
            <p:ph/>
          </p:nvPr>
        </p:nvSpPr>
        <p:spPr>
          <a:xfrm>
            <a:off x="7352280" y="503496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AE102-03A7-4AD3-A635-3155227C6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E6000-DB78-48B9-BB31-13F300EA8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849240" y="2666520"/>
            <a:ext cx="9617040" cy="4534200"/>
          </a:xfrm>
          <a:prstGeom prst="rect">
            <a:avLst/>
          </a:prstGeom>
          <a:noFill/>
          <a:ln w="0">
            <a:noFill/>
          </a:ln>
        </p:spPr>
        <p:txBody>
          <a:bodyPr lIns="0" rIns="0" tIns="0" bIns="0" anchor="ctr">
            <a:noAutofit/>
          </a:bodyPr>
          <a:p>
            <a:pPr indent="0" algn="ctr">
              <a:spcBef>
                <a:spcPts val="950"/>
              </a:spcBef>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91F0B-A963-4E6E-BA86-0B78D3FED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49240" y="2666520"/>
            <a:ext cx="961704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A8C12-7579-40EE-B78C-9221F80E8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849240" y="2666520"/>
            <a:ext cx="469296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51" name="PlaceHolder 3"/>
          <p:cNvSpPr>
            <a:spLocks noGrp="1"/>
          </p:cNvSpPr>
          <p:nvPr>
            <p:ph/>
          </p:nvPr>
        </p:nvSpPr>
        <p:spPr>
          <a:xfrm>
            <a:off x="5777280" y="2666520"/>
            <a:ext cx="469296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7687C-BAE3-485B-9A9D-59509D976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E8BD2-8417-451A-B7BB-CF67D0156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49240" y="712800"/>
            <a:ext cx="9617040" cy="8228160"/>
          </a:xfrm>
          <a:prstGeom prst="rect">
            <a:avLst/>
          </a:prstGeom>
          <a:noFill/>
          <a:ln w="0">
            <a:noFill/>
          </a:ln>
        </p:spPr>
        <p:txBody>
          <a:bodyPr lIns="0" rIns="0" tIns="0" bIns="0" anchor="ctr">
            <a:noAutofit/>
          </a:bodyPr>
          <a:p>
            <a:pPr algn="ctr">
              <a:spcBef>
                <a:spcPts val="950"/>
              </a:spcBef>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77BC5-CFA9-4383-903C-23B10D0AC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84924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56" name="PlaceHolder 3"/>
          <p:cNvSpPr>
            <a:spLocks noGrp="1"/>
          </p:cNvSpPr>
          <p:nvPr>
            <p:ph/>
          </p:nvPr>
        </p:nvSpPr>
        <p:spPr>
          <a:xfrm>
            <a:off x="5777280" y="2666520"/>
            <a:ext cx="469296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57" name="PlaceHolder 4"/>
          <p:cNvSpPr>
            <a:spLocks noGrp="1"/>
          </p:cNvSpPr>
          <p:nvPr>
            <p:ph/>
          </p:nvPr>
        </p:nvSpPr>
        <p:spPr>
          <a:xfrm>
            <a:off x="849240" y="503496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5C93F-0A7B-454B-89B4-CD23B532B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849240" y="2666520"/>
            <a:ext cx="9617040" cy="4534200"/>
          </a:xfrm>
          <a:prstGeom prst="rect">
            <a:avLst/>
          </a:prstGeom>
          <a:noFill/>
          <a:ln w="0">
            <a:noFill/>
          </a:ln>
        </p:spPr>
        <p:txBody>
          <a:bodyPr lIns="0" rIns="0" tIns="0" bIns="0" anchor="ctr">
            <a:noAutofit/>
          </a:bodyPr>
          <a:p>
            <a:pPr indent="0" algn="ctr">
              <a:spcBef>
                <a:spcPts val="950"/>
              </a:spcBef>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FA736-3D2F-46B2-8409-335ACC853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849240" y="2666520"/>
            <a:ext cx="469296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0" name="PlaceHolder 3"/>
          <p:cNvSpPr>
            <a:spLocks noGrp="1"/>
          </p:cNvSpPr>
          <p:nvPr>
            <p:ph/>
          </p:nvPr>
        </p:nvSpPr>
        <p:spPr>
          <a:xfrm>
            <a:off x="577728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1" name="PlaceHolder 4"/>
          <p:cNvSpPr>
            <a:spLocks noGrp="1"/>
          </p:cNvSpPr>
          <p:nvPr>
            <p:ph/>
          </p:nvPr>
        </p:nvSpPr>
        <p:spPr>
          <a:xfrm>
            <a:off x="5777280" y="503496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58B52-2C3D-403D-9707-67EE8A606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84924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4" name="PlaceHolder 3"/>
          <p:cNvSpPr>
            <a:spLocks noGrp="1"/>
          </p:cNvSpPr>
          <p:nvPr>
            <p:ph/>
          </p:nvPr>
        </p:nvSpPr>
        <p:spPr>
          <a:xfrm>
            <a:off x="577728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5" name="PlaceHolder 4"/>
          <p:cNvSpPr>
            <a:spLocks noGrp="1"/>
          </p:cNvSpPr>
          <p:nvPr>
            <p:ph/>
          </p:nvPr>
        </p:nvSpPr>
        <p:spPr>
          <a:xfrm>
            <a:off x="849240" y="5034960"/>
            <a:ext cx="961704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F06FF-0C39-4308-9895-A431888AF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849240" y="2666520"/>
            <a:ext cx="961704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8" name="PlaceHolder 3"/>
          <p:cNvSpPr>
            <a:spLocks noGrp="1"/>
          </p:cNvSpPr>
          <p:nvPr>
            <p:ph/>
          </p:nvPr>
        </p:nvSpPr>
        <p:spPr>
          <a:xfrm>
            <a:off x="849240" y="5034960"/>
            <a:ext cx="961704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C9710-71D8-49A0-AE79-DE1F0BCE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84924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71" name="PlaceHolder 3"/>
          <p:cNvSpPr>
            <a:spLocks noGrp="1"/>
          </p:cNvSpPr>
          <p:nvPr>
            <p:ph/>
          </p:nvPr>
        </p:nvSpPr>
        <p:spPr>
          <a:xfrm>
            <a:off x="577728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72" name="PlaceHolder 4"/>
          <p:cNvSpPr>
            <a:spLocks noGrp="1"/>
          </p:cNvSpPr>
          <p:nvPr>
            <p:ph/>
          </p:nvPr>
        </p:nvSpPr>
        <p:spPr>
          <a:xfrm>
            <a:off x="849240" y="503496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73" name="PlaceHolder 5"/>
          <p:cNvSpPr>
            <a:spLocks noGrp="1"/>
          </p:cNvSpPr>
          <p:nvPr>
            <p:ph/>
          </p:nvPr>
        </p:nvSpPr>
        <p:spPr>
          <a:xfrm>
            <a:off x="5777280" y="503496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8F0FA-8904-464F-A082-5F1014BF5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49240" y="266652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76" name="PlaceHolder 3"/>
          <p:cNvSpPr>
            <a:spLocks noGrp="1"/>
          </p:cNvSpPr>
          <p:nvPr>
            <p:ph/>
          </p:nvPr>
        </p:nvSpPr>
        <p:spPr>
          <a:xfrm>
            <a:off x="4100760" y="266652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77" name="PlaceHolder 4"/>
          <p:cNvSpPr>
            <a:spLocks noGrp="1"/>
          </p:cNvSpPr>
          <p:nvPr>
            <p:ph/>
          </p:nvPr>
        </p:nvSpPr>
        <p:spPr>
          <a:xfrm>
            <a:off x="7352280" y="266652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78" name="PlaceHolder 5"/>
          <p:cNvSpPr>
            <a:spLocks noGrp="1"/>
          </p:cNvSpPr>
          <p:nvPr>
            <p:ph/>
          </p:nvPr>
        </p:nvSpPr>
        <p:spPr>
          <a:xfrm>
            <a:off x="849240" y="503496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79" name="PlaceHolder 6"/>
          <p:cNvSpPr>
            <a:spLocks noGrp="1"/>
          </p:cNvSpPr>
          <p:nvPr>
            <p:ph/>
          </p:nvPr>
        </p:nvSpPr>
        <p:spPr>
          <a:xfrm>
            <a:off x="4100760" y="503496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80" name="PlaceHolder 7"/>
          <p:cNvSpPr>
            <a:spLocks noGrp="1"/>
          </p:cNvSpPr>
          <p:nvPr>
            <p:ph/>
          </p:nvPr>
        </p:nvSpPr>
        <p:spPr>
          <a:xfrm>
            <a:off x="7352280" y="5034960"/>
            <a:ext cx="30963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F3CE8-0963-455C-9F50-13D02CD02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849240" y="2666520"/>
            <a:ext cx="961704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C6E9B-1293-48BF-B835-9E2AB44D2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49240" y="2666520"/>
            <a:ext cx="469296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11" name="PlaceHolder 3"/>
          <p:cNvSpPr>
            <a:spLocks noGrp="1"/>
          </p:cNvSpPr>
          <p:nvPr>
            <p:ph/>
          </p:nvPr>
        </p:nvSpPr>
        <p:spPr>
          <a:xfrm>
            <a:off x="5777280" y="2666520"/>
            <a:ext cx="469296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B0E49-6558-487C-93F8-78F9E3D74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C91A3-9C0B-4336-97C2-A7DF501DC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712800"/>
            <a:ext cx="9617040" cy="8228160"/>
          </a:xfrm>
          <a:prstGeom prst="rect">
            <a:avLst/>
          </a:prstGeom>
          <a:noFill/>
          <a:ln w="0">
            <a:noFill/>
          </a:ln>
        </p:spPr>
        <p:txBody>
          <a:bodyPr lIns="0" rIns="0" tIns="0" bIns="0" anchor="ctr">
            <a:noAutofit/>
          </a:bodyPr>
          <a:p>
            <a:pPr algn="ctr">
              <a:spcBef>
                <a:spcPts val="950"/>
              </a:spcBef>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6F4A7-EC95-4E12-9E64-0EF2C26F6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84924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16" name="PlaceHolder 3"/>
          <p:cNvSpPr>
            <a:spLocks noGrp="1"/>
          </p:cNvSpPr>
          <p:nvPr>
            <p:ph/>
          </p:nvPr>
        </p:nvSpPr>
        <p:spPr>
          <a:xfrm>
            <a:off x="5777280" y="2666520"/>
            <a:ext cx="469296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17" name="PlaceHolder 4"/>
          <p:cNvSpPr>
            <a:spLocks noGrp="1"/>
          </p:cNvSpPr>
          <p:nvPr>
            <p:ph/>
          </p:nvPr>
        </p:nvSpPr>
        <p:spPr>
          <a:xfrm>
            <a:off x="849240" y="503496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DA73-C6C2-4976-895D-190C9DBC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849240" y="2666520"/>
            <a:ext cx="4692960" cy="453420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20" name="PlaceHolder 3"/>
          <p:cNvSpPr>
            <a:spLocks noGrp="1"/>
          </p:cNvSpPr>
          <p:nvPr>
            <p:ph/>
          </p:nvPr>
        </p:nvSpPr>
        <p:spPr>
          <a:xfrm>
            <a:off x="577728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21" name="PlaceHolder 4"/>
          <p:cNvSpPr>
            <a:spLocks noGrp="1"/>
          </p:cNvSpPr>
          <p:nvPr>
            <p:ph/>
          </p:nvPr>
        </p:nvSpPr>
        <p:spPr>
          <a:xfrm>
            <a:off x="5777280" y="503496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64529-78FA-47F4-B85B-7F60B56D4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4924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24" name="PlaceHolder 3"/>
          <p:cNvSpPr>
            <a:spLocks noGrp="1"/>
          </p:cNvSpPr>
          <p:nvPr>
            <p:ph/>
          </p:nvPr>
        </p:nvSpPr>
        <p:spPr>
          <a:xfrm>
            <a:off x="5777280" y="2666520"/>
            <a:ext cx="469296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25" name="PlaceHolder 4"/>
          <p:cNvSpPr>
            <a:spLocks noGrp="1"/>
          </p:cNvSpPr>
          <p:nvPr>
            <p:ph/>
          </p:nvPr>
        </p:nvSpPr>
        <p:spPr>
          <a:xfrm>
            <a:off x="849240" y="5034960"/>
            <a:ext cx="9617040" cy="2162520"/>
          </a:xfrm>
          <a:prstGeom prst="rect">
            <a:avLst/>
          </a:prstGeom>
          <a:noFill/>
          <a:ln w="0">
            <a:noFill/>
          </a:ln>
        </p:spPr>
        <p:txBody>
          <a:bodyPr lIns="107640" rIns="107640" tIns="54000" bIns="54000" anchor="t">
            <a:normAutofit/>
          </a:bodyPr>
          <a:p>
            <a:pPr indent="0">
              <a:spcBef>
                <a:spcPts val="950"/>
              </a:spcBef>
              <a:buNone/>
              <a:tabLst>
                <a:tab algn="l" pos="1076400"/>
                <a:tab algn="l" pos="2152800"/>
                <a:tab algn="l" pos="3228840"/>
                <a:tab algn="l" pos="4305240"/>
                <a:tab algn="l" pos="5381640"/>
                <a:tab algn="l" pos="6458040"/>
                <a:tab algn="l" pos="7534440"/>
                <a:tab algn="l" pos="8610480"/>
                <a:tab algn="l" pos="9686880"/>
                <a:tab algn="l" pos="10763280"/>
              </a:tabLst>
            </a:pPr>
            <a:endParaRPr b="0" lang="en-US" sz="3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D3385-7057-41A2-A453-7D2FDDF86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2800"/>
            <a:ext cx="9617040" cy="177480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849240" y="2666520"/>
            <a:ext cx="9617040" cy="4534200"/>
          </a:xfrm>
          <a:prstGeom prst="rect">
            <a:avLst/>
          </a:prstGeom>
          <a:noFill/>
          <a:ln w="0">
            <a:noFill/>
          </a:ln>
        </p:spPr>
        <p:txBody>
          <a:bodyPr lIns="107640" rIns="107640" tIns="54000" bIns="54000" anchor="t">
            <a:normAutofit fontScale="92000"/>
          </a:bodyPr>
          <a:p>
            <a:pPr marL="372240" indent="-372240">
              <a:spcBef>
                <a:spcPts val="950"/>
              </a:spcBef>
              <a:buClr>
                <a:srgbClr val="000000"/>
              </a:buClr>
              <a:buFont typeface="Times New Roman"/>
              <a:buChar char="•"/>
              <a:tabLst>
                <a:tab algn="l" pos="1076400"/>
                <a:tab algn="l" pos="2152800"/>
                <a:tab algn="l" pos="3228840"/>
                <a:tab algn="l" pos="4305240"/>
                <a:tab algn="l" pos="5381640"/>
                <a:tab algn="l" pos="6458040"/>
                <a:tab algn="l" pos="7534440"/>
                <a:tab algn="l" pos="8610480"/>
                <a:tab algn="l" pos="9686880"/>
                <a:tab algn="l" pos="107632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804600" indent="-306360">
              <a:spcBef>
                <a:spcPts val="950"/>
              </a:spcBef>
              <a:buClr>
                <a:srgbClr val="000000"/>
              </a:buClr>
              <a:buFont typeface="Times New Roman"/>
              <a:buChar char="–"/>
              <a:tabLst>
                <a:tab algn="l" pos="1076400"/>
                <a:tab algn="l" pos="2152800"/>
                <a:tab algn="l" pos="3228840"/>
                <a:tab algn="l" pos="4305240"/>
                <a:tab algn="l" pos="5381640"/>
                <a:tab algn="l" pos="6458040"/>
                <a:tab algn="l" pos="7534440"/>
                <a:tab algn="l" pos="8610480"/>
                <a:tab algn="l" pos="9686880"/>
                <a:tab algn="l" pos="107632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238040" indent="-248040">
              <a:spcBef>
                <a:spcPts val="950"/>
              </a:spcBef>
              <a:buClr>
                <a:srgbClr val="000000"/>
              </a:buClr>
              <a:buFont typeface="Times New Roman"/>
              <a:buChar char="•"/>
              <a:tabLst>
                <a:tab algn="l" pos="1076400"/>
                <a:tab algn="l" pos="2152800"/>
                <a:tab algn="l" pos="3228840"/>
                <a:tab algn="l" pos="4305240"/>
                <a:tab algn="l" pos="5381640"/>
                <a:tab algn="l" pos="6458040"/>
                <a:tab algn="l" pos="7534440"/>
                <a:tab algn="l" pos="8610480"/>
                <a:tab algn="l" pos="9686880"/>
                <a:tab algn="l" pos="107632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733400" indent="-244800">
              <a:spcBef>
                <a:spcPts val="950"/>
              </a:spcBef>
              <a:buClr>
                <a:srgbClr val="000000"/>
              </a:buClr>
              <a:buFont typeface="Times New Roman"/>
              <a:buChar char="–"/>
              <a:tabLst>
                <a:tab algn="l" pos="1076400"/>
                <a:tab algn="l" pos="2152800"/>
                <a:tab algn="l" pos="3228840"/>
                <a:tab algn="l" pos="4305240"/>
                <a:tab algn="l" pos="5381640"/>
                <a:tab algn="l" pos="6458040"/>
                <a:tab algn="l" pos="7534440"/>
                <a:tab algn="l" pos="8610480"/>
                <a:tab algn="l" pos="9686880"/>
                <a:tab algn="l" pos="107632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2231280" indent="-249480">
              <a:spcBef>
                <a:spcPts val="950"/>
              </a:spcBef>
              <a:buClr>
                <a:srgbClr val="000000"/>
              </a:buClr>
              <a:buFont typeface="Times New Roman"/>
              <a:buChar char="»"/>
              <a:tabLst>
                <a:tab algn="l" pos="1076400"/>
                <a:tab algn="l" pos="2152800"/>
                <a:tab algn="l" pos="3228840"/>
                <a:tab algn="l" pos="4305240"/>
                <a:tab algn="l" pos="5381640"/>
                <a:tab algn="l" pos="6458040"/>
                <a:tab algn="l" pos="7534440"/>
                <a:tab algn="l" pos="8610480"/>
                <a:tab algn="l" pos="9686880"/>
                <a:tab algn="l" pos="107632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2231280" indent="-249480">
              <a:spcBef>
                <a:spcPts val="950"/>
              </a:spcBef>
              <a:buClr>
                <a:srgbClr val="000000"/>
              </a:buClr>
              <a:buFont typeface="Times New Roman"/>
              <a:buChar char="»"/>
              <a:tabLst>
                <a:tab algn="l" pos="1076400"/>
                <a:tab algn="l" pos="2152800"/>
                <a:tab algn="l" pos="3228840"/>
                <a:tab algn="l" pos="4305240"/>
                <a:tab algn="l" pos="5381640"/>
                <a:tab algn="l" pos="6458040"/>
                <a:tab algn="l" pos="7534440"/>
                <a:tab algn="l" pos="8610480"/>
                <a:tab algn="l" pos="9686880"/>
                <a:tab algn="l" pos="107632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2231280" indent="-249480">
              <a:spcBef>
                <a:spcPts val="950"/>
              </a:spcBef>
              <a:buClr>
                <a:srgbClr val="000000"/>
              </a:buClr>
              <a:buFont typeface="Times New Roman"/>
              <a:buChar char="»"/>
              <a:tabLst>
                <a:tab algn="l" pos="1076400"/>
                <a:tab algn="l" pos="2152800"/>
                <a:tab algn="l" pos="3228840"/>
                <a:tab algn="l" pos="4305240"/>
                <a:tab algn="l" pos="5381640"/>
                <a:tab algn="l" pos="6458040"/>
                <a:tab algn="l" pos="7534440"/>
                <a:tab algn="l" pos="8610480"/>
                <a:tab algn="l" pos="9686880"/>
                <a:tab algn="l" pos="107632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sp>
        <p:nvSpPr>
          <p:cNvPr id="2" name="PlaceHolder 3"/>
          <p:cNvSpPr>
            <a:spLocks noGrp="1"/>
          </p:cNvSpPr>
          <p:nvPr>
            <p:ph type="dt" idx="1"/>
          </p:nvPr>
        </p:nvSpPr>
        <p:spPr>
          <a:xfrm>
            <a:off x="848880" y="7288200"/>
            <a:ext cx="2357640" cy="533520"/>
          </a:xfrm>
          <a:prstGeom prst="rect">
            <a:avLst/>
          </a:prstGeom>
          <a:noFill/>
          <a:ln w="0">
            <a:noFill/>
          </a:ln>
        </p:spPr>
        <p:txBody>
          <a:bodyPr lIns="107640" rIns="107640" tIns="54000" bIns="54000" anchor="t">
            <a:noAutofit/>
          </a:bodyPr>
          <a:lstStyle>
            <a:lvl1pPr indent="0">
              <a:buNone/>
              <a:tabLst>
                <a:tab algn="l" pos="0"/>
                <a:tab algn="l" pos="1076400"/>
                <a:tab algn="l" pos="2152800"/>
                <a:tab algn="l" pos="3228840"/>
                <a:tab algn="l" pos="4305240"/>
                <a:tab algn="l" pos="5381640"/>
                <a:tab algn="l" pos="6458040"/>
                <a:tab algn="l" pos="7534440"/>
                <a:tab algn="l" pos="8610480"/>
                <a:tab algn="l" pos="9686880"/>
                <a:tab algn="l" pos="10763280"/>
              </a:tabLst>
              <a:defRPr b="0" lang="en-US" sz="1600" spc="-1" strike="noStrike">
                <a:solidFill>
                  <a:srgbClr val="000000"/>
                </a:solidFill>
                <a:latin typeface="Times New Roman"/>
              </a:defRPr>
            </a:lvl1pPr>
          </a:lstStyle>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865320" y="7288200"/>
            <a:ext cx="3584520" cy="533520"/>
          </a:xfrm>
          <a:prstGeom prst="rect">
            <a:avLst/>
          </a:prstGeom>
          <a:noFill/>
          <a:ln w="0">
            <a:noFill/>
          </a:ln>
        </p:spPr>
        <p:txBody>
          <a:bodyPr lIns="107640" rIns="107640" tIns="54000" bIns="54000" anchor="t">
            <a:noAutofit/>
          </a:bodyPr>
          <a:lstStyle>
            <a:lvl1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defRPr b="0" lang="en-US" sz="1600" spc="-1" strike="noStrike">
                <a:solidFill>
                  <a:srgbClr val="000000"/>
                </a:solidFill>
                <a:latin typeface="Times New Roman"/>
              </a:defRPr>
            </a:lvl1pPr>
          </a:lstStyle>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637400" y="7288200"/>
            <a:ext cx="2828880" cy="533520"/>
          </a:xfrm>
          <a:prstGeom prst="rect">
            <a:avLst/>
          </a:prstGeom>
          <a:noFill/>
          <a:ln w="0">
            <a:noFill/>
          </a:ln>
        </p:spPr>
        <p:txBody>
          <a:bodyPr lIns="107640" rIns="107640" tIns="54000" bIns="54000" anchor="t">
            <a:noAutofit/>
          </a:bodyPr>
          <a:lstStyle>
            <a:lvl1pPr indent="0" algn="r">
              <a:buNone/>
              <a:tabLst>
                <a:tab algn="l" pos="0"/>
                <a:tab algn="l" pos="1076400"/>
                <a:tab algn="l" pos="2152800"/>
                <a:tab algn="l" pos="3228840"/>
                <a:tab algn="l" pos="4305240"/>
                <a:tab algn="l" pos="5381640"/>
                <a:tab algn="l" pos="6458040"/>
                <a:tab algn="l" pos="7534440"/>
                <a:tab algn="l" pos="8610480"/>
                <a:tab algn="l" pos="9686880"/>
                <a:tab algn="l" pos="10763280"/>
              </a:tabLst>
              <a:defRPr b="0" lang="en-US" sz="1600" spc="-1" strike="noStrike">
                <a:solidFill>
                  <a:srgbClr val="000000"/>
                </a:solidFill>
                <a:latin typeface="Times New Roman"/>
              </a:defRPr>
            </a:lvl1pPr>
          </a:lstStyle>
          <a:p>
            <a:pPr indent="0" algn="r">
              <a:buNone/>
              <a:tabLst>
                <a:tab algn="l" pos="0"/>
                <a:tab algn="l" pos="1076400"/>
                <a:tab algn="l" pos="2152800"/>
                <a:tab algn="l" pos="3228840"/>
                <a:tab algn="l" pos="4305240"/>
                <a:tab algn="l" pos="5381640"/>
                <a:tab algn="l" pos="6458040"/>
                <a:tab algn="l" pos="7534440"/>
                <a:tab algn="l" pos="8610480"/>
                <a:tab algn="l" pos="9686880"/>
                <a:tab algn="l" pos="10763280"/>
              </a:tabLst>
            </a:pPr>
            <a:fld id="{8F0F86EC-9325-46B1-A554-F7869A6ABBAD}"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49240" y="2045880"/>
            <a:ext cx="9617040" cy="1954440"/>
          </a:xfrm>
          <a:prstGeom prst="rect">
            <a:avLst/>
          </a:prstGeom>
          <a:noFill/>
          <a:ln w="0">
            <a:noFill/>
          </a:ln>
        </p:spPr>
        <p:txBody>
          <a:bodyPr lIns="107640" rIns="107640" tIns="54000" bIns="54000" anchor="ctr">
            <a:noAutofit/>
          </a:bodyPr>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848880" y="7288200"/>
            <a:ext cx="2357640" cy="533520"/>
          </a:xfrm>
          <a:prstGeom prst="rect">
            <a:avLst/>
          </a:prstGeom>
          <a:noFill/>
          <a:ln w="0">
            <a:noFill/>
          </a:ln>
        </p:spPr>
        <p:txBody>
          <a:bodyPr lIns="107640" rIns="107640" tIns="54000" bIns="54000" anchor="t">
            <a:noAutofit/>
          </a:bodyPr>
          <a:lstStyle>
            <a:lvl1pPr indent="0">
              <a:buNone/>
              <a:tabLst>
                <a:tab algn="l" pos="0"/>
                <a:tab algn="l" pos="1076400"/>
                <a:tab algn="l" pos="2152800"/>
                <a:tab algn="l" pos="3228840"/>
                <a:tab algn="l" pos="4305240"/>
                <a:tab algn="l" pos="5381640"/>
                <a:tab algn="l" pos="6458040"/>
                <a:tab algn="l" pos="7534440"/>
                <a:tab algn="l" pos="8610480"/>
                <a:tab algn="l" pos="9686880"/>
                <a:tab algn="l" pos="10763280"/>
              </a:tabLst>
              <a:defRPr b="0" lang="en-US" sz="1600" spc="-1" strike="noStrike">
                <a:solidFill>
                  <a:srgbClr val="000000"/>
                </a:solidFill>
                <a:latin typeface="Times New Roman"/>
              </a:defRPr>
            </a:lvl1pPr>
          </a:lstStyle>
          <a:p>
            <a:pPr indent="0">
              <a:buNone/>
              <a:tabLst>
                <a:tab algn="l" pos="0"/>
                <a:tab algn="l" pos="1076400"/>
                <a:tab algn="l" pos="2152800"/>
                <a:tab algn="l" pos="3228840"/>
                <a:tab algn="l" pos="4305240"/>
                <a:tab algn="l" pos="5381640"/>
                <a:tab algn="l" pos="6458040"/>
                <a:tab algn="l" pos="7534440"/>
                <a:tab algn="l" pos="8610480"/>
                <a:tab algn="l" pos="9686880"/>
                <a:tab algn="l" pos="1076328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43" name="PlaceHolder 3"/>
          <p:cNvSpPr>
            <a:spLocks noGrp="1"/>
          </p:cNvSpPr>
          <p:nvPr>
            <p:ph type="ftr" idx="5"/>
          </p:nvPr>
        </p:nvSpPr>
        <p:spPr>
          <a:xfrm>
            <a:off x="3865320" y="7288200"/>
            <a:ext cx="3584520" cy="533520"/>
          </a:xfrm>
          <a:prstGeom prst="rect">
            <a:avLst/>
          </a:prstGeom>
          <a:noFill/>
          <a:ln w="0">
            <a:noFill/>
          </a:ln>
        </p:spPr>
        <p:txBody>
          <a:bodyPr lIns="107640" rIns="107640" tIns="54000" bIns="54000" anchor="t">
            <a:noAutofit/>
          </a:bodyPr>
          <a:lstStyle>
            <a:lvl1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defRPr b="0" lang="en-US" sz="1600" spc="-1" strike="noStrike">
                <a:solidFill>
                  <a:srgbClr val="000000"/>
                </a:solidFill>
                <a:latin typeface="Times New Roman"/>
              </a:defRPr>
            </a:lvl1pPr>
          </a:lstStyle>
          <a:p>
            <a:pPr indent="0" algn="ctr">
              <a:buNone/>
              <a:tabLst>
                <a:tab algn="l" pos="0"/>
                <a:tab algn="l" pos="1076400"/>
                <a:tab algn="l" pos="2152800"/>
                <a:tab algn="l" pos="3228840"/>
                <a:tab algn="l" pos="4305240"/>
                <a:tab algn="l" pos="5381640"/>
                <a:tab algn="l" pos="6458040"/>
                <a:tab algn="l" pos="7534440"/>
                <a:tab algn="l" pos="8610480"/>
                <a:tab algn="l" pos="9686880"/>
                <a:tab algn="l" pos="1076328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44" name="PlaceHolder 4"/>
          <p:cNvSpPr>
            <a:spLocks noGrp="1"/>
          </p:cNvSpPr>
          <p:nvPr>
            <p:ph type="sldNum" idx="6"/>
          </p:nvPr>
        </p:nvSpPr>
        <p:spPr>
          <a:xfrm>
            <a:off x="7826040" y="7288200"/>
            <a:ext cx="2639880" cy="533520"/>
          </a:xfrm>
          <a:prstGeom prst="rect">
            <a:avLst/>
          </a:prstGeom>
          <a:noFill/>
          <a:ln w="0">
            <a:noFill/>
          </a:ln>
        </p:spPr>
        <p:txBody>
          <a:bodyPr lIns="107640" rIns="107640" tIns="54000" bIns="54000" anchor="t">
            <a:noAutofit/>
          </a:bodyPr>
          <a:lstStyle>
            <a:lvl1pPr indent="0" algn="r">
              <a:buNone/>
              <a:tabLst>
                <a:tab algn="l" pos="0"/>
                <a:tab algn="l" pos="1076400"/>
                <a:tab algn="l" pos="2152800"/>
                <a:tab algn="l" pos="3228840"/>
                <a:tab algn="l" pos="4305240"/>
                <a:tab algn="l" pos="5381640"/>
                <a:tab algn="l" pos="6458040"/>
                <a:tab algn="l" pos="7534440"/>
                <a:tab algn="l" pos="8610480"/>
                <a:tab algn="l" pos="9686880"/>
                <a:tab algn="l" pos="10763280"/>
              </a:tabLst>
              <a:defRPr b="0" lang="en-US" sz="1600" spc="-1" strike="noStrike">
                <a:solidFill>
                  <a:srgbClr val="000000"/>
                </a:solidFill>
                <a:latin typeface="Times New Roman"/>
              </a:defRPr>
            </a:lvl1pPr>
          </a:lstStyle>
          <a:p>
            <a:pPr indent="0" algn="r">
              <a:buNone/>
              <a:tabLst>
                <a:tab algn="l" pos="0"/>
                <a:tab algn="l" pos="1076400"/>
                <a:tab algn="l" pos="2152800"/>
                <a:tab algn="l" pos="3228840"/>
                <a:tab algn="l" pos="4305240"/>
                <a:tab algn="l" pos="5381640"/>
                <a:tab algn="l" pos="6458040"/>
                <a:tab algn="l" pos="7534440"/>
                <a:tab algn="l" pos="8610480"/>
                <a:tab algn="l" pos="9686880"/>
                <a:tab algn="l" pos="10763280"/>
              </a:tabLst>
            </a:pPr>
            <a:fld id="{C636C1B3-A763-4053-B469-982A6F58BA71}"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1440"/>
            <a:ext cx="11315880" cy="8002440"/>
          </a:xfrm>
          <a:prstGeom prst="rect">
            <a:avLst/>
          </a:prstGeom>
          <a:ln w="0">
            <a:noFill/>
          </a:ln>
        </p:spPr>
      </p:pic>
      <p:sp>
        <p:nvSpPr>
          <p:cNvPr id="82" name=""/>
          <p:cNvSpPr/>
          <p:nvPr/>
        </p:nvSpPr>
        <p:spPr>
          <a:xfrm>
            <a:off x="0" y="5410080"/>
            <a:ext cx="11315880" cy="1721880"/>
          </a:xfrm>
          <a:prstGeom prst="rect">
            <a:avLst/>
          </a:prstGeom>
          <a:noFill/>
          <a:ln w="0">
            <a:noFill/>
          </a:ln>
        </p:spPr>
        <p:style>
          <a:lnRef idx="0"/>
          <a:fillRef idx="0"/>
          <a:effectRef idx="0"/>
          <a:fontRef idx="minor"/>
        </p:style>
        <p:txBody>
          <a:bodyPr lIns="96480" rIns="96480" tIns="48240" bIns="48240" anchor="t">
            <a:spAutoFit/>
          </a:bodyPr>
          <a:p>
            <a:pPr algn="ctr">
              <a:lnSpc>
                <a:spcPts val="6398"/>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7200" spc="-1" strike="noStrike">
                <a:solidFill>
                  <a:srgbClr val="ffffff"/>
                </a:solidFill>
                <a:latin typeface="Formata RegularSC"/>
              </a:rPr>
              <a:t>Pla d’Acció Municipal </a:t>
            </a:r>
            <a:endParaRPr b="0" lang="en-US" sz="7200" spc="-1" strike="noStrike">
              <a:solidFill>
                <a:srgbClr val="000000"/>
              </a:solidFill>
              <a:latin typeface="Times New Roman"/>
            </a:endParaRPr>
          </a:p>
          <a:p>
            <a:pPr algn="ctr">
              <a:lnSpc>
                <a:spcPts val="6398"/>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7200" spc="-1" strike="noStrike">
                <a:solidFill>
                  <a:srgbClr val="ffffff"/>
                </a:solidFill>
                <a:latin typeface="Formata RegularSC"/>
              </a:rPr>
              <a:t>2003-2007</a:t>
            </a:r>
            <a:endParaRPr b="0" lang="en-US" sz="7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51" name=""/>
          <p:cNvSpPr/>
          <p:nvPr/>
        </p:nvSpPr>
        <p:spPr>
          <a:xfrm>
            <a:off x="533520" y="1905120"/>
            <a:ext cx="4800600" cy="5715000"/>
          </a:xfrm>
          <a:prstGeom prst="rect">
            <a:avLst/>
          </a:prstGeom>
          <a:solidFill>
            <a:srgbClr val="8712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1066680"/>
            <a:ext cx="10287000" cy="581400"/>
          </a:xfrm>
          <a:prstGeom prst="rect">
            <a:avLst/>
          </a:prstGeom>
          <a:solidFill>
            <a:srgbClr val="871234"/>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2 : Ciutat</a:t>
            </a:r>
            <a:endParaRPr b="0" lang="en-US" sz="3200" spc="-1" strike="noStrike">
              <a:solidFill>
                <a:srgbClr val="000000"/>
              </a:solidFill>
              <a:latin typeface="Times New Roman"/>
            </a:endParaRPr>
          </a:p>
        </p:txBody>
      </p:sp>
      <p:sp>
        <p:nvSpPr>
          <p:cNvPr id="153" name=""/>
          <p:cNvSpPr/>
          <p:nvPr/>
        </p:nvSpPr>
        <p:spPr>
          <a:xfrm>
            <a:off x="609480" y="1981080"/>
            <a:ext cx="4648320" cy="5779080"/>
          </a:xfrm>
          <a:prstGeom prst="rect">
            <a:avLst/>
          </a:prstGeom>
          <a:noFill/>
          <a:ln w="0">
            <a:noFill/>
          </a:ln>
        </p:spPr>
        <p:style>
          <a:lnRef idx="0"/>
          <a:fillRef idx="0"/>
          <a:effectRef idx="0"/>
          <a:fontRef idx="minor"/>
        </p:style>
        <p:txBody>
          <a:bodyPr lIns="90000" rIns="90000" tIns="46800" bIns="46800" anchor="t">
            <a:spAutoFit/>
          </a:bodyPr>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Barri del Carme</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La intervenció urbanística prevista al barri del Carme respon a un plantejament global de ciutat que té com un dels eixos bàsics la recuperació del centre per a usos diversos (comercials, residencials i d'oci) a partir d'actuacions que afavoreixin la convivència social i contribueixin a definir una fesomia urbana amb marca de qualitat. L'atenció a la realitat social dels espais a rehabilitar i la voluntat d'integrar en aquest àmbit les dinàmiques de participació ciutadana constitueixen un altre dels vèrtexs de les polítiques urbanístiques previstes per als propers anys.</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Modificacions del Pla General d’Ordenació Urbana necessàries per al desenvolupament de l'estudi urbanístic del Barri del Carme.</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Concreció de les actuacions proposades en l'estudi a partir del procés de diàleg i de negociació amb el veïnat, amb especial atenció a les mesures d'afectació que se'n puguin desprendre.</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Definició del projecte urbanístic a partir de l'assumpció dels grans objectius definits en l'estudi previ: la millora de la connexió del barri amb la resta de la ciutat, la voluntat de regenerar-lo com a àrea de nova centralitat, la millora de la qualitat dels espais públics i la intervenció en el parc d'habitatges, amb incidència específica en l'ampliació de l'oferta d'habitatge social.</a:t>
            </a:r>
            <a:endParaRPr b="0" lang="en-US" sz="1400" spc="-1" strike="noStrike">
              <a:solidFill>
                <a:srgbClr val="000000"/>
              </a:solidFill>
              <a:latin typeface="Times New Roman"/>
            </a:endParaRPr>
          </a:p>
        </p:txBody>
      </p:sp>
      <p:sp>
        <p:nvSpPr>
          <p:cNvPr id="154"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9</a:t>
            </a:r>
            <a:endParaRPr b="0" lang="en-US" sz="1400" spc="-1" strike="noStrike">
              <a:solidFill>
                <a:srgbClr val="000000"/>
              </a:solidFill>
              <a:latin typeface="Times New Roman"/>
            </a:endParaRPr>
          </a:p>
        </p:txBody>
      </p:sp>
      <p:sp>
        <p:nvSpPr>
          <p:cNvPr id="155" name=""/>
          <p:cNvSpPr/>
          <p:nvPr/>
        </p:nvSpPr>
        <p:spPr>
          <a:xfrm>
            <a:off x="5943600" y="1905120"/>
            <a:ext cx="4800600" cy="5715000"/>
          </a:xfrm>
          <a:prstGeom prst="rect">
            <a:avLst/>
          </a:prstGeom>
          <a:solidFill>
            <a:srgbClr val="8712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19920" y="1981080"/>
            <a:ext cx="4647960" cy="520884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Barri Gaudí</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Rehabilitar els blocs Bofill en el marc d'una actuació general al barri Gaudí que permeti impulsar-ne el creixemen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atàleg del patrimoni</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provar definitivament el Pla especial del catàleg del patrimoni arquitectònic, urbanístic i paisatgístic de Reus per tal de mantenir i recuperar el patrimoni.</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Barri Fortuny</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Rehabilitar el barri Fortuny.</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Eliminació del cinturó de ferro</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El desplaçament de l'actual via fèrria, a l'est de la ciutat, obre les portes al creixement futur de la ciutat en aquest flanc. Un creixement que ha de donar resposta a les necessitats, presents i futures, pel que fa a usos industrials i residencial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Negociar amb el Ministeri de Foment i amb la Generalitat de Catalunya el desplaçament de l'actual cinturó ferroviari.</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59" name=""/>
          <p:cNvSpPr/>
          <p:nvPr/>
        </p:nvSpPr>
        <p:spPr>
          <a:xfrm>
            <a:off x="533520" y="1905120"/>
            <a:ext cx="4800600" cy="5715000"/>
          </a:xfrm>
          <a:prstGeom prst="rect">
            <a:avLst/>
          </a:prstGeom>
          <a:solidFill>
            <a:srgbClr val="8712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520" y="1066680"/>
            <a:ext cx="10287000" cy="581400"/>
          </a:xfrm>
          <a:prstGeom prst="rect">
            <a:avLst/>
          </a:prstGeom>
          <a:solidFill>
            <a:srgbClr val="871234"/>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2 : Ciutat</a:t>
            </a:r>
            <a:endParaRPr b="0" lang="en-US" sz="3200" spc="-1" strike="noStrike">
              <a:solidFill>
                <a:srgbClr val="000000"/>
              </a:solidFill>
              <a:latin typeface="Times New Roman"/>
            </a:endParaRPr>
          </a:p>
        </p:txBody>
      </p:sp>
      <p:sp>
        <p:nvSpPr>
          <p:cNvPr id="161"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0</a:t>
            </a:r>
            <a:endParaRPr b="0" lang="en-US" sz="1400" spc="-1" strike="noStrike">
              <a:solidFill>
                <a:srgbClr val="000000"/>
              </a:solidFill>
              <a:latin typeface="Times New Roman"/>
            </a:endParaRPr>
          </a:p>
        </p:txBody>
      </p:sp>
      <p:sp>
        <p:nvSpPr>
          <p:cNvPr id="162" name=""/>
          <p:cNvSpPr/>
          <p:nvPr/>
        </p:nvSpPr>
        <p:spPr>
          <a:xfrm>
            <a:off x="5943600" y="1905120"/>
            <a:ext cx="4800600" cy="5715000"/>
          </a:xfrm>
          <a:prstGeom prst="rect">
            <a:avLst/>
          </a:prstGeom>
          <a:solidFill>
            <a:srgbClr val="8712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9480" y="1905120"/>
            <a:ext cx="4648320" cy="47826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Parc sud</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nàlisi i definició urbanística de l'àrea compresa entre la carretera de Cambrils, la variant sud fins al barri Montserrat, amb l'objectiu de dotar la ciutat de la façana sud sobre la variant i definir el "parc Sud".</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Plans especial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Redacció de plans especials a l'àrea La Hispania i a l'àrea 6.20 El Carrile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Noves portes portes d'entrada a la ciuta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mb la definitiva entrada en funcionament de les dues variants de la ciutat, negociar amb l'estat i la Generalitat la reversió de les actuals carreteres que travessen la ciutat, amb la finalitat de dotar progressivament aquestes vies urbanes d'una configuració d'avingudes d'entrada a la ciutat. Harmonitzar la tipologia urbanística de les rondes a la zona nord de l'avinguda de Marià Fortuny, en el tram entre la carretera de Montblanc i el Palau de Fires i Congressos.</a:t>
            </a:r>
            <a:endParaRPr b="0" lang="en-US" sz="1400" spc="-1" strike="noStrike">
              <a:solidFill>
                <a:srgbClr val="000000"/>
              </a:solidFill>
              <a:latin typeface="Times New Roman"/>
            </a:endParaRPr>
          </a:p>
        </p:txBody>
      </p:sp>
      <p:sp>
        <p:nvSpPr>
          <p:cNvPr id="164" name=""/>
          <p:cNvSpPr/>
          <p:nvPr/>
        </p:nvSpPr>
        <p:spPr>
          <a:xfrm>
            <a:off x="5943600" y="1981080"/>
            <a:ext cx="4724280" cy="499572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Recollida de residu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osada en marxa dels serveis segregats per a la recollida de residus banals i per a la recollida selectiva a comerços, bars i restaurants i petita indústria de manera concertada amb els sectors professionals implicats, per evitar la deposició d'aquests residus a la via públic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ontenidors de superfície</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Senyalitzar, protegir i embellir els contenidors de superfície. Mantenir les ratios de contenidors de rebuig i de selectiva per habitant.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Habitatges de lloguer per a joves</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romoció directa d'habitatges de lloguer per a joves a l'àrea de Mas Bertran.</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Habitatges de lloguer</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mpliar l'oferta d'habitatges destinats a llogu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amp de futbol del barri vell de Sant Josep</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Recuperar l'espai disponible al camp de futbol del barri vell de Sant Josep Obrer.</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67" name=""/>
          <p:cNvSpPr/>
          <p:nvPr/>
        </p:nvSpPr>
        <p:spPr>
          <a:xfrm>
            <a:off x="533520" y="1905120"/>
            <a:ext cx="4800600" cy="5715000"/>
          </a:xfrm>
          <a:prstGeom prst="rect">
            <a:avLst/>
          </a:prstGeom>
          <a:solidFill>
            <a:srgbClr val="8712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33520" y="1066680"/>
            <a:ext cx="10287000" cy="581400"/>
          </a:xfrm>
          <a:prstGeom prst="rect">
            <a:avLst/>
          </a:prstGeom>
          <a:solidFill>
            <a:srgbClr val="871234"/>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2 : Ciutat</a:t>
            </a:r>
            <a:endParaRPr b="0" lang="en-US" sz="3200" spc="-1" strike="noStrike">
              <a:solidFill>
                <a:srgbClr val="000000"/>
              </a:solidFill>
              <a:latin typeface="Times New Roman"/>
            </a:endParaRPr>
          </a:p>
        </p:txBody>
      </p:sp>
      <p:sp>
        <p:nvSpPr>
          <p:cNvPr id="169"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1</a:t>
            </a:r>
            <a:endParaRPr b="0" lang="en-US" sz="1400" spc="-1" strike="noStrike">
              <a:solidFill>
                <a:srgbClr val="000000"/>
              </a:solidFill>
              <a:latin typeface="Times New Roman"/>
            </a:endParaRPr>
          </a:p>
        </p:txBody>
      </p:sp>
      <p:sp>
        <p:nvSpPr>
          <p:cNvPr id="170" name=""/>
          <p:cNvSpPr/>
          <p:nvPr/>
        </p:nvSpPr>
        <p:spPr>
          <a:xfrm>
            <a:off x="5867280" y="1905120"/>
            <a:ext cx="4800600" cy="5715000"/>
          </a:xfrm>
          <a:prstGeom prst="rect">
            <a:avLst/>
          </a:prstGeom>
          <a:solidFill>
            <a:srgbClr val="8712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480" y="1981080"/>
            <a:ext cx="4648320" cy="563508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Rehabilitació d’habitatg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rograma de rehabilitació d'habitatges. Programes de subvenció i foment de la rehabilitació interior dels habitatges del centre històric. Impulsar la reubicació de residents i l'activitat comercial tot aprofitant l'acabament del Pallol, estudiant programes de subvenció, de foment, de rehabilitació interior dels habitatges. Impulsar programes de rehabilitació dels edificis amb una antiguitat superior als 30 any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entre Cívic Llevan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rojectar i dotar d'equipaments el Centre Cívic Llevan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Pla Director d’Aparcament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ssumpció i implementació del Pla Director d'Aparcaments d'AMERSAM, amb la creació de fins a 1.750 noves places d'aparcament subterrani.</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Supressió de barreres arquitectòniqu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Supressió de barreres arquitectòniqu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Estadi municipal de futbo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Estadi municipal de futbol. Culminació del procés de reforma integral i de les instal·lacions annexes.</a:t>
            </a:r>
            <a:endParaRPr b="0" lang="en-US" sz="1400" spc="-1" strike="noStrike">
              <a:solidFill>
                <a:srgbClr val="000000"/>
              </a:solidFill>
              <a:latin typeface="Times New Roman"/>
            </a:endParaRPr>
          </a:p>
        </p:txBody>
      </p:sp>
      <p:sp>
        <p:nvSpPr>
          <p:cNvPr id="172" name=""/>
          <p:cNvSpPr/>
          <p:nvPr/>
        </p:nvSpPr>
        <p:spPr>
          <a:xfrm>
            <a:off x="5943600" y="1981080"/>
            <a:ext cx="4648320" cy="584820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Nova zona de fitness</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Construcció d'una zona de fitness, welnnes i piscina coberta.</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Equipaments esportius </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rograma d'equipaments esportius escolars i d'ús ciutadà per a l'esport de base, i d'inversions en equipaments esportius existents (equipaments escolars, ascensor al pavelló, adaptació de les instal·lacions esportives a la normativa de riscos laborals).</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amp de futbol del barri Montserrat</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Camp de futbol del barri Montserrat. Construcció del nou camp de futbol i equipament poliesportiu del barri Montserrat, a partir del projecte aprovat i iniciat en el mandat 1999-2003. </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Protecció d’animals</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Donar compliment a la Llei de protecció d'animals (servei de recollida i acollida d'animals abandonats, afavoriment de l'adopció i l'apadrinament, campanya de control per xip, gossos perillosos, conscienciació i sensibilització ciutadanes i mesures sancionadores en els casos necessaris).</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75" name=""/>
          <p:cNvSpPr/>
          <p:nvPr/>
        </p:nvSpPr>
        <p:spPr>
          <a:xfrm>
            <a:off x="533520" y="1905120"/>
            <a:ext cx="4800600" cy="5715000"/>
          </a:xfrm>
          <a:prstGeom prst="rect">
            <a:avLst/>
          </a:prstGeom>
          <a:solidFill>
            <a:srgbClr val="8712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520" y="1066680"/>
            <a:ext cx="10287000" cy="581400"/>
          </a:xfrm>
          <a:prstGeom prst="rect">
            <a:avLst/>
          </a:prstGeom>
          <a:solidFill>
            <a:srgbClr val="871234"/>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2 : Ciutat</a:t>
            </a:r>
            <a:endParaRPr b="0" lang="en-US" sz="3200" spc="-1" strike="noStrike">
              <a:solidFill>
                <a:srgbClr val="000000"/>
              </a:solidFill>
              <a:latin typeface="Times New Roman"/>
            </a:endParaRPr>
          </a:p>
        </p:txBody>
      </p:sp>
      <p:sp>
        <p:nvSpPr>
          <p:cNvPr id="177"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2</a:t>
            </a:r>
            <a:endParaRPr b="0" lang="en-US" sz="1400" spc="-1" strike="noStrike">
              <a:solidFill>
                <a:srgbClr val="000000"/>
              </a:solidFill>
              <a:latin typeface="Times New Roman"/>
            </a:endParaRPr>
          </a:p>
        </p:txBody>
      </p:sp>
      <p:sp>
        <p:nvSpPr>
          <p:cNvPr id="178" name=""/>
          <p:cNvSpPr/>
          <p:nvPr/>
        </p:nvSpPr>
        <p:spPr>
          <a:xfrm>
            <a:off x="5943600" y="1905120"/>
            <a:ext cx="4800600" cy="5715000"/>
          </a:xfrm>
          <a:prstGeom prst="rect">
            <a:avLst/>
          </a:prstGeom>
          <a:solidFill>
            <a:srgbClr val="8712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9480" y="1998720"/>
            <a:ext cx="4648320" cy="58482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Servei de recollida d’escombrari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mpliar el servei de recollida d'escombrari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Abastament d’aigu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Millorar la xarxa de regulació i abastament d'aigua. Renovar i ampliar la xarxa d'abastament (segons la planificació anual). Estudi de viabilitat dels analitzadors en continu a abastamen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Servei de recollida d’escombrari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Millorar el servei de recollida d'escombrari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Remodelació d’espais urban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Definir un pla plurianual de remodelació d'espais urbans, amb una dotació mínima de 3 milions d'euros anuals, que permeti intervenir-hi per millorar l'estat en què es trobin o per d'adequar-los com a zones de vianants o de circulació.</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Autobusos urban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mpliar la dotació de vehicles de l'empresa municipal Reus Transport per tal de poder incrementar les freqüències de pas dels autobusos i millorar el servei als usuaris, a partir de les previsions del Pla Director d'aquesta empresa municip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
          <p:cNvSpPr/>
          <p:nvPr/>
        </p:nvSpPr>
        <p:spPr>
          <a:xfrm>
            <a:off x="6095880" y="2030400"/>
            <a:ext cx="4572000" cy="105768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Neteja viària</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mpliació de contracte de neteja viària.</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83" name=""/>
          <p:cNvSpPr/>
          <p:nvPr/>
        </p:nvSpPr>
        <p:spPr>
          <a:xfrm>
            <a:off x="533520" y="1905120"/>
            <a:ext cx="10210680" cy="5715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066680"/>
            <a:ext cx="1028700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3 : Economia</a:t>
            </a:r>
            <a:endParaRPr b="0" lang="en-US" sz="3200" spc="-1" strike="noStrike">
              <a:solidFill>
                <a:srgbClr val="000000"/>
              </a:solidFill>
              <a:latin typeface="Times New Roman"/>
            </a:endParaRPr>
          </a:p>
        </p:txBody>
      </p:sp>
      <p:sp>
        <p:nvSpPr>
          <p:cNvPr id="185" name=""/>
          <p:cNvSpPr/>
          <p:nvPr/>
        </p:nvSpPr>
        <p:spPr>
          <a:xfrm>
            <a:off x="838080" y="2041560"/>
            <a:ext cx="9677520" cy="5045400"/>
          </a:xfrm>
          <a:prstGeom prst="rect">
            <a:avLst/>
          </a:prstGeom>
          <a:noFill/>
          <a:ln w="0">
            <a:noFill/>
          </a:ln>
        </p:spPr>
        <p:style>
          <a:lnRef idx="0"/>
          <a:fillRef idx="0"/>
          <a:effectRef idx="0"/>
          <a:fontRef idx="minor"/>
        </p:style>
        <p:txBody>
          <a:bodyPr lIns="90000" rIns="90000" tIns="46800" bIns="46800" anchor="t">
            <a:spAutoFit/>
          </a:bodyPr>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Formata Regular"/>
              </a:rPr>
              <a:t>Oferir a tota la ciutadania l'oportunitat de gaudir d'una bona formació per poder aprofitar les oportunitats que ofereix el dinamisme econòmic de la ciutat. Considerant el desen-volupament econòmic i la generació d'ocupació com dos elements que han d'estar estretament vinculats. Potenciant les infraestructures de desenvolupament econòmic en benefici de tota la ciutadania. Impulsant decididament l'ocupació estable i de qualitat, amb polítiques de formació i d'inserció laboral. Potenciant també el comerç, una de les activitats econòmiques més importants de la ciutat, i entenent que la promoció econòmica de Reus i la millora de l'ocupació s'han de fer en el marc de la societat del coneixement, on les tecnologies són un element clau per al desenvolupament personal i col·lectiu. </a:t>
            </a:r>
            <a:endParaRPr b="0" lang="en-US" sz="2400" spc="-1" strike="noStrike">
              <a:solidFill>
                <a:srgbClr val="000000"/>
              </a:solidFill>
              <a:latin typeface="Times New Roman"/>
            </a:endParaRPr>
          </a:p>
        </p:txBody>
      </p:sp>
      <p:sp>
        <p:nvSpPr>
          <p:cNvPr id="186"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3</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89" name=""/>
          <p:cNvSpPr/>
          <p:nvPr/>
        </p:nvSpPr>
        <p:spPr>
          <a:xfrm>
            <a:off x="533520" y="1905120"/>
            <a:ext cx="4800600" cy="5715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33520" y="1066680"/>
            <a:ext cx="1028700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3 : Economia</a:t>
            </a:r>
            <a:endParaRPr b="0" lang="en-US" sz="3200" spc="-1" strike="noStrike">
              <a:solidFill>
                <a:srgbClr val="000000"/>
              </a:solidFill>
              <a:latin typeface="Times New Roman"/>
            </a:endParaRPr>
          </a:p>
        </p:txBody>
      </p:sp>
      <p:sp>
        <p:nvSpPr>
          <p:cNvPr id="191" name=""/>
          <p:cNvSpPr/>
          <p:nvPr/>
        </p:nvSpPr>
        <p:spPr>
          <a:xfrm>
            <a:off x="609480" y="1981080"/>
            <a:ext cx="4648320" cy="563508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Impuls i implantació</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del Parc Tecnològic del Camp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La implantació del Parc Tecnològic del Camp-Tecnoparc de Reus és un projecte estratègic de primera magnitud per a la plena immersió de la ciutat en la societat del coneixement. Pol tecnològic de caràcter capdavanter profundament imbricat en les dinàmiques empresarials (ja existents o de nova creació) i de generació del saber (a través de la universitat), actua alhora com a gran referent per a tot un seguit d'actuacions de caràcter urbanístic atesa la seva ubicació en una cruïlla bàsica des del punt de vista de les infraestructures, de manera especial en relació a l'arribada de l'alta velocitat i la connexió amb l'aeroport.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En aquest context, les accions previstes al voltant d'aquest projecte són: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Creació de la societat gestora del parc de naturalesa mixta (primera fase).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Aprofitar el projecte del Parc Tecnològic del Camp-Tecnoparc de Reus per consolidar el campus de l'actual Facultat de Ciències Econòmiques i Empresarials de la URV com el gran nucli universitari de futur creixement a la ciutat.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endParaRPr b="0" lang="en-US" sz="1400" spc="-1" strike="noStrike">
              <a:solidFill>
                <a:srgbClr val="000000"/>
              </a:solidFill>
              <a:latin typeface="Times New Roman"/>
            </a:endParaRPr>
          </a:p>
        </p:txBody>
      </p:sp>
      <p:sp>
        <p:nvSpPr>
          <p:cNvPr id="192"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4</a:t>
            </a:r>
            <a:endParaRPr b="0" lang="en-US" sz="1400" spc="-1" strike="noStrike">
              <a:solidFill>
                <a:srgbClr val="000000"/>
              </a:solidFill>
              <a:latin typeface="Times New Roman"/>
            </a:endParaRPr>
          </a:p>
        </p:txBody>
      </p:sp>
      <p:sp>
        <p:nvSpPr>
          <p:cNvPr id="193" name=""/>
          <p:cNvSpPr/>
          <p:nvPr/>
        </p:nvSpPr>
        <p:spPr>
          <a:xfrm>
            <a:off x="5943600" y="1905120"/>
            <a:ext cx="4800600" cy="5715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19920" y="1981080"/>
            <a:ext cx="4647960" cy="499572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Impulsar la recerca en el marc del projecte del Parc Tecnològic del Camp-Tecnoparc de Reus amb la finalitat de col·laborar en l'atracció i consolidació d'empreses d'alt valor afegit i en la formació dels titulars universitaris.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Impulsar el que ja es coneix com el parc tecnològic, que ha d'esdevenir un referent de les noves activitats emmarcades en la nova economia productiva en un marc de qualitat urban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Sòl industri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Creació de sòl industrial públic i afavoriment del desenvolupament de sòl qualificat com a industrial (Mas Batlle).</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Zona industrial al voltant del Parc Tecnològic</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l sud, desenvolupament de la nova zona industrial, comercial i de serveis que s'articularà al voltant de l'autovia de Bellisens amb el potent nucli del Parc Tecnològic: sector A8 La Roureda, sector A12 riera del Molinet i sector H11 Bellisens oes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97" name=""/>
          <p:cNvSpPr/>
          <p:nvPr/>
        </p:nvSpPr>
        <p:spPr>
          <a:xfrm>
            <a:off x="533520" y="1905120"/>
            <a:ext cx="4800600" cy="5715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33520" y="1066680"/>
            <a:ext cx="1028700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3 : Economia</a:t>
            </a:r>
            <a:endParaRPr b="0" lang="en-US" sz="3200" spc="-1" strike="noStrike">
              <a:solidFill>
                <a:srgbClr val="000000"/>
              </a:solidFill>
              <a:latin typeface="Times New Roman"/>
            </a:endParaRPr>
          </a:p>
        </p:txBody>
      </p:sp>
      <p:sp>
        <p:nvSpPr>
          <p:cNvPr id="199" name=""/>
          <p:cNvSpPr/>
          <p:nvPr/>
        </p:nvSpPr>
        <p:spPr>
          <a:xfrm>
            <a:off x="685800" y="2000160"/>
            <a:ext cx="4495680" cy="58482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Mas Carandel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otenciar l'Institut Municipal de Formació i Empresa Mas Carandell i la Fundació Mas Carandel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Mas Miarnau</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osada en funcionament del Centre d'Innovació i Formació Permanent Mas Miarnau.</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Escola taller</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mpliació de l'Escola Taller de l’Institut Municipal de Formació i Empresa Mas Carandel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Tecnologies aplicades a la gestió</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La incorporació dels avantatges de les tecnologies de la informació i del coneixement, juntament amb l'adopció d'una nova perspectiva en l'atenció ciutadana constitueixen un dels grans reptes assumits des de la municipalitat per impulsar la modernització de la gestió i organització interna. En una segona fase, aquest camí ha d'aprofundir en la consolidació d'aquesta nova cultura de la gestió i la relació amb els ciutadans a partir de la millora del funcionament informàtic de les diferents àrees municipal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10748880" y="7466400"/>
            <a:ext cx="4525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5</a:t>
            </a:r>
            <a:endParaRPr b="0" lang="en-US" sz="1400" spc="-1" strike="noStrike">
              <a:solidFill>
                <a:srgbClr val="000000"/>
              </a:solidFill>
              <a:latin typeface="Times New Roman"/>
            </a:endParaRPr>
          </a:p>
        </p:txBody>
      </p:sp>
      <p:sp>
        <p:nvSpPr>
          <p:cNvPr id="201" name=""/>
          <p:cNvSpPr/>
          <p:nvPr/>
        </p:nvSpPr>
        <p:spPr>
          <a:xfrm>
            <a:off x="6019920" y="1905120"/>
            <a:ext cx="4800600" cy="5715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72200" y="1990080"/>
            <a:ext cx="4495680" cy="4356360"/>
          </a:xfrm>
          <a:prstGeom prst="rect">
            <a:avLst/>
          </a:prstGeom>
          <a:noFill/>
          <a:ln w="0">
            <a:noFill/>
          </a:ln>
        </p:spPr>
        <p:style>
          <a:lnRef idx="0"/>
          <a:fillRef idx="0"/>
          <a:effectRef idx="0"/>
          <a:fontRef idx="minor"/>
        </p:style>
        <p:txBody>
          <a:bodyPr lIns="90000" rIns="90000" tIns="46800" bIns="46800" anchor="ctr">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Sòl industrial a Bellisen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Construir sòl industrial a Bellisens sud i a l'entorn de la carretera de Montblanc i de Constantí: sector H12 Mas Sunyer, sector B8 Cementiri i àrea 5.15 Butan Reu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Noves tecnologi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Formació en noves tecnologies i Internet. Potenciació de les experiències de formació per Internet (e-learning). Implementació d'un programa de formació bàsica i accés tutelat gratuït a Internet per als ciutadans i ciutadanes que no tinguin coneixements en l'àmbit de les noves tecnologies (ordinadors, mòbils, caixers automàtics, et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205" name=""/>
          <p:cNvSpPr/>
          <p:nvPr/>
        </p:nvSpPr>
        <p:spPr>
          <a:xfrm>
            <a:off x="533520" y="1905120"/>
            <a:ext cx="10134360" cy="5638680"/>
          </a:xfrm>
          <a:prstGeom prst="rect">
            <a:avLst/>
          </a:prstGeom>
          <a:solidFill>
            <a:srgbClr val="ff2e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33520" y="1066680"/>
            <a:ext cx="10287000" cy="581400"/>
          </a:xfrm>
          <a:prstGeom prst="rect">
            <a:avLst/>
          </a:prstGeom>
          <a:solidFill>
            <a:srgbClr val="ff2e4a"/>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4 : Capitalitat</a:t>
            </a:r>
            <a:endParaRPr b="0" lang="en-US" sz="3200" spc="-1" strike="noStrike">
              <a:solidFill>
                <a:srgbClr val="000000"/>
              </a:solidFill>
              <a:latin typeface="Times New Roman"/>
            </a:endParaRPr>
          </a:p>
        </p:txBody>
      </p:sp>
      <p:sp>
        <p:nvSpPr>
          <p:cNvPr id="207" name=""/>
          <p:cNvSpPr/>
          <p:nvPr/>
        </p:nvSpPr>
        <p:spPr>
          <a:xfrm>
            <a:off x="685800" y="2041560"/>
            <a:ext cx="982980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Formata Regular"/>
              </a:rPr>
              <a:t>Potenciar la posició estratègica de Reus en l'Arc del Mediterrani com a ciutat capdavantera de la segona àrea metropolitana de Catalunya. Aprofitant el potencial turístic que aporta la proximitat de la Costa Daurada. Enfortint el lideratge territorial de la ciutat en col·laboració amb la resta de municipis de l'entorn a partir de l'impuls decidit que ha donat l'Ajuntament de Reus al Consorci del Camp de Tarragona. Reforçant el paper de Reus com a punt d'atracció i de referència treballant per la projecció externa de la ciutat més enllà del comerç i del modernisme. Continuant amb la política de solidaritat internacional participant en projectes de cooperació i desenvolupament i treballant per la cultura de la pau.</a:t>
            </a:r>
            <a:endParaRPr b="0" lang="en-US" sz="2400" spc="-1" strike="noStrike">
              <a:solidFill>
                <a:srgbClr val="000000"/>
              </a:solidFill>
              <a:latin typeface="Times New Roman"/>
            </a:endParaRPr>
          </a:p>
        </p:txBody>
      </p:sp>
      <p:sp>
        <p:nvSpPr>
          <p:cNvPr id="208"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6</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Formata RegularSC"/>
              </a:rPr>
              <a:t>El Pla d’Acció Municipal 2003-2007</a:t>
            </a:r>
            <a:endParaRPr b="0" lang="en-US" sz="4800" spc="-1" strike="noStrike">
              <a:solidFill>
                <a:srgbClr val="000000"/>
              </a:solidFill>
              <a:latin typeface="Times New Roman"/>
            </a:endParaRPr>
          </a:p>
        </p:txBody>
      </p:sp>
      <p:sp>
        <p:nvSpPr>
          <p:cNvPr id="211" name=""/>
          <p:cNvSpPr/>
          <p:nvPr/>
        </p:nvSpPr>
        <p:spPr>
          <a:xfrm>
            <a:off x="533520" y="1905120"/>
            <a:ext cx="4800600" cy="5715000"/>
          </a:xfrm>
          <a:prstGeom prst="rect">
            <a:avLst/>
          </a:prstGeom>
          <a:solidFill>
            <a:srgbClr val="ff2e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33520" y="1066680"/>
            <a:ext cx="10287000" cy="581400"/>
          </a:xfrm>
          <a:prstGeom prst="rect">
            <a:avLst/>
          </a:prstGeom>
          <a:solidFill>
            <a:srgbClr val="ff2e4a"/>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4 : Capitalitat</a:t>
            </a:r>
            <a:endParaRPr b="0" lang="en-US" sz="3200" spc="-1" strike="noStrike">
              <a:solidFill>
                <a:srgbClr val="000000"/>
              </a:solidFill>
              <a:latin typeface="Times New Roman"/>
            </a:endParaRPr>
          </a:p>
        </p:txBody>
      </p:sp>
      <p:sp>
        <p:nvSpPr>
          <p:cNvPr id="213" name=""/>
          <p:cNvSpPr/>
          <p:nvPr/>
        </p:nvSpPr>
        <p:spPr>
          <a:xfrm>
            <a:off x="685800" y="1905120"/>
            <a:ext cx="4572000" cy="563508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apsa Gaudí</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Incrementar la promoció del patrimoni modernista de Reus a través del projecte d'oci cultural de La Capsa Gaudí. El projecte d'espai de descoberta del Modernisme Capsa Gaudí ha de vertebrar i impulsar encara més totes les iniciatives de promoció del modernisme que s'han anat desenvolupant en els darrers anys. Des d'un plantejament innovador d'oferta d'oci cultural, ha de reforçar d'una manera indissoluble el binomi Reus-Gaudí i aprofitar el balanç altament positiu de la celebració de l'Any Internacional Gaudí.</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Fira de Reu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otenciar les activitats firals i congressuals de Fira de Reus a partir del nou model de gestió desenvolupat des de REDESSA i de les potencialitats de les instal·lacions actual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entre d’Arts Escèniqu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osada en funcionament del Centre d'Arts Escèniques com a centre de producció de les arts escèniques del sud de Cataluny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Oficina dels Festival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Oficina dels Festivals de Reus.</a:t>
            </a:r>
            <a:endParaRPr b="0" lang="en-US" sz="1400" spc="-1" strike="noStrike">
              <a:solidFill>
                <a:srgbClr val="000000"/>
              </a:solidFill>
              <a:latin typeface="Times New Roman"/>
            </a:endParaRPr>
          </a:p>
        </p:txBody>
      </p:sp>
      <p:sp>
        <p:nvSpPr>
          <p:cNvPr id="214"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ormata Regular"/>
              </a:rPr>
              <a:t>17</a:t>
            </a:r>
            <a:endParaRPr b="0" lang="en-US" sz="1400" spc="-1" strike="noStrike">
              <a:solidFill>
                <a:srgbClr val="000000"/>
              </a:solidFill>
              <a:latin typeface="Times New Roman"/>
            </a:endParaRPr>
          </a:p>
        </p:txBody>
      </p:sp>
      <p:sp>
        <p:nvSpPr>
          <p:cNvPr id="215" name=""/>
          <p:cNvSpPr/>
          <p:nvPr/>
        </p:nvSpPr>
        <p:spPr>
          <a:xfrm>
            <a:off x="5867280" y="1905120"/>
            <a:ext cx="4800600" cy="5715000"/>
          </a:xfrm>
          <a:prstGeom prst="rect">
            <a:avLst/>
          </a:prstGeom>
          <a:solidFill>
            <a:srgbClr val="ff2e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867280" y="1905120"/>
            <a:ext cx="4724640" cy="115956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entre d’Interpretació del Modernisme</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Ús del pavelló dels distingits de l'Institut Pere Mata com a Centre d'Interpretació del Modernisme de Cataluny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219" name=""/>
          <p:cNvSpPr/>
          <p:nvPr/>
        </p:nvSpPr>
        <p:spPr>
          <a:xfrm>
            <a:off x="533520" y="1905120"/>
            <a:ext cx="10210680" cy="5715000"/>
          </a:xfrm>
          <a:prstGeom prst="rect">
            <a:avLst/>
          </a:prstGeom>
          <a:solidFill>
            <a:srgbClr val="6857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3520" y="1066680"/>
            <a:ext cx="10287000" cy="581400"/>
          </a:xfrm>
          <a:prstGeom prst="rect">
            <a:avLst/>
          </a:prstGeom>
          <a:solidFill>
            <a:srgbClr val="68577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5 : Sostenibilitat</a:t>
            </a:r>
            <a:endParaRPr b="0" lang="en-US" sz="3200" spc="-1" strike="noStrike">
              <a:solidFill>
                <a:srgbClr val="000000"/>
              </a:solidFill>
              <a:latin typeface="Times New Roman"/>
            </a:endParaRPr>
          </a:p>
        </p:txBody>
      </p:sp>
      <p:sp>
        <p:nvSpPr>
          <p:cNvPr id="221" name=""/>
          <p:cNvSpPr/>
          <p:nvPr/>
        </p:nvSpPr>
        <p:spPr>
          <a:xfrm>
            <a:off x="838080" y="2117880"/>
            <a:ext cx="9677520" cy="5045400"/>
          </a:xfrm>
          <a:prstGeom prst="rect">
            <a:avLst/>
          </a:prstGeom>
          <a:noFill/>
          <a:ln w="0">
            <a:noFill/>
          </a:ln>
        </p:spPr>
        <p:style>
          <a:lnRef idx="0"/>
          <a:fillRef idx="0"/>
          <a:effectRef idx="0"/>
          <a:fontRef idx="minor"/>
        </p:style>
        <p:txBody>
          <a:bodyPr lIns="90000" rIns="90000" tIns="46800" bIns="46800" anchor="t">
            <a:spAutoFit/>
          </a:bodyPr>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Formata Regular"/>
              </a:rPr>
              <a:t>Fer de Reus una ciutat sostenible, on la cura i el respecte pel medi ambient siguin una prioritat del govern municipal. Desenvolupant el Pla d'acció ambiental de l'Agenda 21 Local, prioritzant les polítiques destinades a conservar el paisatge i protegir els espais naturals, tot augmentant la superfície de zones verdes. Informant la ciutadania dels beneficis que reporta al medi ambient i a la salut la limitació de l'ús del vehicle privat. Treballant per a la reducció de la contaminació acústica. Promovent un consum responsable de l'aigua, la reducció i el tractament més correcte dels residus i l'ús d'energies renovables entre les empreses, els particulars i la mateixa administració. Potenciant l'educació ambiental i vetllant pel compliment de la normativa general de protecció de la salut de les persones.</a:t>
            </a:r>
            <a:endParaRPr b="0" lang="en-US" sz="2400" spc="-1" strike="noStrike">
              <a:solidFill>
                <a:srgbClr val="000000"/>
              </a:solidFill>
              <a:latin typeface="Times New Roman"/>
            </a:endParaRPr>
          </a:p>
        </p:txBody>
      </p:sp>
      <p:sp>
        <p:nvSpPr>
          <p:cNvPr id="222"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8</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85"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a:t>
            </a:r>
            <a:endParaRPr b="0" lang="en-US" sz="1400" spc="-1" strike="noStrike">
              <a:solidFill>
                <a:srgbClr val="000000"/>
              </a:solidFill>
              <a:latin typeface="Times New Roman"/>
            </a:endParaRPr>
          </a:p>
        </p:txBody>
      </p:sp>
      <p:sp>
        <p:nvSpPr>
          <p:cNvPr id="86" name=""/>
          <p:cNvSpPr/>
          <p:nvPr/>
        </p:nvSpPr>
        <p:spPr>
          <a:xfrm>
            <a:off x="838080" y="1342080"/>
            <a:ext cx="9677520" cy="5798160"/>
          </a:xfrm>
          <a:prstGeom prst="rect">
            <a:avLst/>
          </a:prstGeom>
          <a:noFill/>
          <a:ln w="0">
            <a:noFill/>
          </a:ln>
        </p:spPr>
        <p:style>
          <a:lnRef idx="0"/>
          <a:fillRef idx="0"/>
          <a:effectRef idx="0"/>
          <a:fontRef idx="minor"/>
        </p:style>
        <p:txBody>
          <a:bodyPr lIns="90000" rIns="90000" tIns="46800" bIns="46800" anchor="ctr">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Formata Regular"/>
              </a:rPr>
              <a:t>El Pla d'Acció Municipal té com a objectiu concretar les accions a desenvolupar en el mandat 2003-2007 d'acord amb l'ideari polític de progrés definit en el Pacte de govern municipal i tenint en compte, alhora, les directrius dels processos participatius elaborats per la ciutadania (Pla Estratègic Reus Impuls 2005, Agenda 21 Local i Projecte Educatiu de Ciutat).</a:t>
            </a: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Formata Regular"/>
              </a:rPr>
              <a:t>Estructurades en cinc grans eixos, el Pla d'Acció Municipal conté les actuacions prioritàries establertes per als propers anys, les quals resten obertes als canvis constants que es produeixen en tots els àmbits de la política i de la realitat ciutadan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225" name=""/>
          <p:cNvSpPr/>
          <p:nvPr/>
        </p:nvSpPr>
        <p:spPr>
          <a:xfrm>
            <a:off x="533520" y="1905120"/>
            <a:ext cx="4800600" cy="5715000"/>
          </a:xfrm>
          <a:prstGeom prst="rect">
            <a:avLst/>
          </a:prstGeom>
          <a:solidFill>
            <a:srgbClr val="6857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33520" y="1066680"/>
            <a:ext cx="10287000" cy="581400"/>
          </a:xfrm>
          <a:prstGeom prst="rect">
            <a:avLst/>
          </a:prstGeom>
          <a:solidFill>
            <a:srgbClr val="68577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5 : Sostenibilitat</a:t>
            </a:r>
            <a:endParaRPr b="0" lang="en-US" sz="3200" spc="-1" strike="noStrike">
              <a:solidFill>
                <a:srgbClr val="000000"/>
              </a:solidFill>
              <a:latin typeface="Times New Roman"/>
            </a:endParaRPr>
          </a:p>
        </p:txBody>
      </p:sp>
      <p:sp>
        <p:nvSpPr>
          <p:cNvPr id="227" name=""/>
          <p:cNvSpPr/>
          <p:nvPr/>
        </p:nvSpPr>
        <p:spPr>
          <a:xfrm>
            <a:off x="609480" y="2031840"/>
            <a:ext cx="4648320" cy="563508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La nova façana verd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Les intervencions urbanístiques projectades a la façana nord responen a la voluntat de dotar aquesta àrea, en aquests moments desdibuixada pel que fa a la trama urbana però amb un gran potencial de creixement, en un espai urbà de qualitat que permeti combinar els nous usos residencials amb la definició de nous espais verd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Definició del passeig Nord com a nova via verda que connecti la carretera de Montblanc amb el recinte de l'Institut Pere Mat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Modificar el Pla General d’Ordenació Urbana per tal de planejar el desenvolupament urbanístic de l'entorn urbanitzable del nou passeig.</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r>
              <a:rPr b="0" lang="ca-ES" sz="1400" spc="-1" strike="noStrike">
                <a:solidFill>
                  <a:srgbClr val="ffffff"/>
                </a:solidFill>
                <a:latin typeface="Tahoma"/>
              </a:rPr>
              <a:t>Connectar la primera fase de desenvolupament urbanístic del passeig Nord amb la Urbanització Sant Joan.</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Parc del Roquí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rojecte i planejament per al desenvolupament de la nova zona verda i residencial del parc del Roquís que ocuparà tot l'espai comprès entre el parc dels Capellans, la carretera de Riudoms, la variant Sud i el polígon Agro-Reus. Executar la 1ª fase del parc i del seu entorn urbanitzable.</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 </a:t>
            </a:r>
            <a:endParaRPr b="0" lang="en-US" sz="1400" spc="-1" strike="noStrike">
              <a:solidFill>
                <a:srgbClr val="000000"/>
              </a:solidFill>
              <a:latin typeface="Times New Roman"/>
            </a:endParaRPr>
          </a:p>
        </p:txBody>
      </p:sp>
      <p:sp>
        <p:nvSpPr>
          <p:cNvPr id="228"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19</a:t>
            </a:r>
            <a:endParaRPr b="0" lang="en-US" sz="1400" spc="-1" strike="noStrike">
              <a:solidFill>
                <a:srgbClr val="000000"/>
              </a:solidFill>
              <a:latin typeface="Times New Roman"/>
            </a:endParaRPr>
          </a:p>
        </p:txBody>
      </p:sp>
      <p:sp>
        <p:nvSpPr>
          <p:cNvPr id="229" name=""/>
          <p:cNvSpPr/>
          <p:nvPr/>
        </p:nvSpPr>
        <p:spPr>
          <a:xfrm>
            <a:off x="5943600" y="1908000"/>
            <a:ext cx="4800600" cy="5715000"/>
          </a:xfrm>
          <a:prstGeom prst="rect">
            <a:avLst/>
          </a:prstGeom>
          <a:solidFill>
            <a:srgbClr val="6857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19920" y="2057400"/>
            <a:ext cx="4647960" cy="201204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Parc de Mas Iglésia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Culminar el parc de Mas Iglesias.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Boca de la Min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Recuperar nous espais verds al passeig de la Boca de la Min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Mas Bertran</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Zona verda del Mas Bertran.</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233" name=""/>
          <p:cNvSpPr/>
          <p:nvPr/>
        </p:nvSpPr>
        <p:spPr>
          <a:xfrm>
            <a:off x="533520" y="1905120"/>
            <a:ext cx="4800600" cy="5715000"/>
          </a:xfrm>
          <a:prstGeom prst="rect">
            <a:avLst/>
          </a:prstGeom>
          <a:solidFill>
            <a:srgbClr val="6857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3520" y="1066680"/>
            <a:ext cx="10287000" cy="581400"/>
          </a:xfrm>
          <a:prstGeom prst="rect">
            <a:avLst/>
          </a:prstGeom>
          <a:solidFill>
            <a:srgbClr val="68577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5 : Sostenibilitat</a:t>
            </a:r>
            <a:endParaRPr b="0" lang="en-US" sz="3200" spc="-1" strike="noStrike">
              <a:solidFill>
                <a:srgbClr val="000000"/>
              </a:solidFill>
              <a:latin typeface="Times New Roman"/>
            </a:endParaRPr>
          </a:p>
        </p:txBody>
      </p:sp>
      <p:sp>
        <p:nvSpPr>
          <p:cNvPr id="235" name=""/>
          <p:cNvSpPr/>
          <p:nvPr/>
        </p:nvSpPr>
        <p:spPr>
          <a:xfrm>
            <a:off x="533520" y="1905120"/>
            <a:ext cx="4800600" cy="499572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Impuls de l’Agenda 21 Loc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Impulsar l'Agenda 21 local seguint les conclusions i les estratègies que es determinin en clau de participació ciutadana i implicant els grups ecologistes i les ONG en el disseny de polítiques mediambientals. Crear l'Oficina de l'Agenda 21 Local. Difondre el Pla d'acció ambiental a totes les àrees municipals. Introduir pràctiques de compra i gestió ambientalment correctes a l'Ajuntament, els seus organismes autònoms i les empreses municipal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Xarxa de camins rural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Mantenir adequadament la xarxa de camins rurals creant una xarxa verda que relligui els recorreguts en l'entorn rural i el verd urbà que contribueixi a aprofundir la relació de la ciutadania amb l'entorn rural. Redactar el Pla especial de camin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Respecte pel medi</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Equipar el Centre de Recursos Mediambientals amb els elements que en permetin la funció didàctica i dinamitzadora: exposició permanent de pràctiques ambientalment correctes.</a:t>
            </a:r>
            <a:endParaRPr b="0" lang="en-US" sz="1400" spc="-1" strike="noStrike">
              <a:solidFill>
                <a:srgbClr val="000000"/>
              </a:solidFill>
              <a:latin typeface="Times New Roman"/>
            </a:endParaRPr>
          </a:p>
        </p:txBody>
      </p:sp>
      <p:sp>
        <p:nvSpPr>
          <p:cNvPr id="236"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20</a:t>
            </a:r>
            <a:endParaRPr b="0" lang="en-US" sz="1400" spc="-1" strike="noStrike">
              <a:solidFill>
                <a:srgbClr val="000000"/>
              </a:solidFill>
              <a:latin typeface="Times New Roman"/>
            </a:endParaRPr>
          </a:p>
        </p:txBody>
      </p:sp>
      <p:sp>
        <p:nvSpPr>
          <p:cNvPr id="237" name=""/>
          <p:cNvSpPr/>
          <p:nvPr/>
        </p:nvSpPr>
        <p:spPr>
          <a:xfrm>
            <a:off x="5943600" y="1905120"/>
            <a:ext cx="4800600" cy="5715000"/>
          </a:xfrm>
          <a:prstGeom prst="rect">
            <a:avLst/>
          </a:prstGeom>
          <a:solidFill>
            <a:srgbClr val="6857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943600" y="1940040"/>
            <a:ext cx="4724280" cy="53730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ontenidors soterrats</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Instal·lar unitats de contenidors soterrats per a residus domèstics a la primera i segona anella de la ciutat, aptes per a la recollida de totes les fraccions. Introduir a l'ordenament municipal l'obligatorietat que les noves àrees urbanes disposin d'espai propi per a la recollida de residus.</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Aigües residuals</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Introduir millores a l’estació depuradora d’aigües residuals (ACA), construir un terciari (desnitrificació), que permetrà la reutilització de les aigües residuals. Posada en servei del sistema de cogeneració energètica a l’estació depuradora.</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Vehicles de recollida</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Estudi i implantació d'un sistema GPS als vehicles de recollida.</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Centre de Recursos Mediambientals</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Construir el nou edifici per al Centre de Recursos Mediambientals a l'àrea del barranc de l'Escorial, amb finançament provinent de programes europeus, i amb una tipologia arquitectònica i funcional adequada al màxim als criteris de sostenibilitat.</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241" name=""/>
          <p:cNvSpPr/>
          <p:nvPr/>
        </p:nvSpPr>
        <p:spPr>
          <a:xfrm>
            <a:off x="533520" y="1905120"/>
            <a:ext cx="4800600" cy="5715000"/>
          </a:xfrm>
          <a:prstGeom prst="rect">
            <a:avLst/>
          </a:prstGeom>
          <a:solidFill>
            <a:srgbClr val="6857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33520" y="1066680"/>
            <a:ext cx="10287000" cy="581400"/>
          </a:xfrm>
          <a:prstGeom prst="rect">
            <a:avLst/>
          </a:prstGeom>
          <a:solidFill>
            <a:srgbClr val="68577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5 : Sostenibilitat</a:t>
            </a:r>
            <a:endParaRPr b="0" lang="en-US" sz="3200" spc="-1" strike="noStrike">
              <a:solidFill>
                <a:srgbClr val="000000"/>
              </a:solidFill>
              <a:latin typeface="Times New Roman"/>
            </a:endParaRPr>
          </a:p>
        </p:txBody>
      </p:sp>
      <p:sp>
        <p:nvSpPr>
          <p:cNvPr id="243" name=""/>
          <p:cNvSpPr/>
          <p:nvPr/>
        </p:nvSpPr>
        <p:spPr>
          <a:xfrm>
            <a:off x="533520" y="1905120"/>
            <a:ext cx="4647960" cy="62442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Educació ambient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Impulsar l'educació ambiental: potenciar els programes actuals ("Reus, ciutat viva"; "Obrim l'escola a la natura", etc.) i crear-ne de nous per atendre noves necessitat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Energies renovabl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Completar l'equipament de sistemes de generació solar d'aigua calenta a tots els centres educatius i als equipaments esportius públics de la ciutat. Valorar en tot nou equipament municipal la incorporació d'energies renovables. Posada en servei del projecte d'equipament fotovoltaic a l'edifici del Merca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Zones d’interès ecològic i natur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Regenerar i protegir rieres i altres zones d'interès ecològic i natural. Redactar un pla de recuperació i manteniment de rieres i barrancs, amb un tractament específic per als cursos que s'utilitzen com a camins. Considerar la preservació del caràcter de les rieres i barrancs que quedin inclosos en sòl urbanitzable sempre que estiguin inclosos en zones verd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Residus voluminosos</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lanta de tractament de residus voluminosos.</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21</a:t>
            </a:r>
            <a:endParaRPr b="0" lang="en-US" sz="1400" spc="-1" strike="noStrike">
              <a:solidFill>
                <a:srgbClr val="000000"/>
              </a:solidFill>
              <a:latin typeface="Times New Roman"/>
            </a:endParaRPr>
          </a:p>
        </p:txBody>
      </p:sp>
      <p:sp>
        <p:nvSpPr>
          <p:cNvPr id="245" name=""/>
          <p:cNvSpPr/>
          <p:nvPr/>
        </p:nvSpPr>
        <p:spPr>
          <a:xfrm>
            <a:off x="5867280" y="1905120"/>
            <a:ext cx="4800600" cy="5715000"/>
          </a:xfrm>
          <a:prstGeom prst="rect">
            <a:avLst/>
          </a:prstGeom>
          <a:solidFill>
            <a:srgbClr val="6857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1908000"/>
            <a:ext cx="4648320" cy="58482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Xarxa de sanejament d’aigü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Renovar i ampliar la xarxa de sanejament (segons la planificació anual). Construir els col·lectors de sanejament urbà pendent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Energies renovabl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Promoure l'aplicació d'energies renovables en edificis d'habitatges i d'equipaments mitjançant l'aprovació de l'ordenança solar i l'ampliació de les mesures locals de foment a les energies renovabl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Deixalleria municip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mpliar la deixalleria del polígon Agro-Reus diferenciant-hi les zones per a usuaris  particulars i per a professional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Xarxa d’aigü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Ampliar l’estació de tractament d’aigua potable (potabilitzadora).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ffffff"/>
                </a:solidFill>
                <a:latin typeface="Tahoma"/>
              </a:rPr>
              <a:t>Mapa acústic</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ahoma"/>
              </a:rPr>
              <a:t>Elaborar el mapa acústic de la ciutat a partir de l'actual cadastre sonor incorporant-hi les dades de camp complementàries. Avaluar els nivells de soroll en punts sensibles i aplicar mesures de sanejament acústic.</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1440"/>
            <a:ext cx="11315880" cy="800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216240" y="1103400"/>
            <a:ext cx="4784760" cy="1374120"/>
          </a:xfrm>
          <a:prstGeom prst="rect">
            <a:avLst/>
          </a:prstGeom>
          <a:solidFill>
            <a:srgbClr val="007480"/>
          </a:solid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Formata RegularSC"/>
              </a:rPr>
              <a:t>Processos </a:t>
            </a:r>
            <a:br>
              <a:rPr sz="4200"/>
            </a:br>
            <a:r>
              <a:rPr b="0" lang="es-ES_tradnl" sz="4200" spc="-1" strike="noStrike">
                <a:solidFill>
                  <a:srgbClr val="ffffff"/>
                </a:solidFill>
                <a:latin typeface="Formata RegularSC"/>
              </a:rPr>
              <a:t>Estratègics</a:t>
            </a:r>
            <a:endParaRPr b="0" lang="en-US" sz="4200" spc="-1" strike="noStrike">
              <a:solidFill>
                <a:srgbClr val="000000"/>
              </a:solidFill>
              <a:latin typeface="Times New Roman"/>
            </a:endParaRPr>
          </a:p>
        </p:txBody>
      </p:sp>
      <p:sp>
        <p:nvSpPr>
          <p:cNvPr id="89" name=""/>
          <p:cNvSpPr/>
          <p:nvPr/>
        </p:nvSpPr>
        <p:spPr>
          <a:xfrm>
            <a:off x="665280" y="4148280"/>
            <a:ext cx="2550960" cy="1190520"/>
          </a:xfrm>
          <a:prstGeom prst="rect">
            <a:avLst/>
          </a:prstGeom>
          <a:solidFill>
            <a:srgbClr val="871234"/>
          </a:solid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ormata RegularSC"/>
              </a:rPr>
              <a:t>Pacte de </a:t>
            </a:r>
            <a:br>
              <a:rPr sz="4000"/>
            </a:br>
            <a:r>
              <a:rPr b="0" lang="es-ES_tradnl" sz="4000" spc="-1" strike="noStrike">
                <a:solidFill>
                  <a:srgbClr val="ffffff"/>
                </a:solidFill>
                <a:latin typeface="Formata RegularSC"/>
              </a:rPr>
              <a:t>Govern</a:t>
            </a:r>
            <a:endParaRPr b="0" lang="en-US" sz="4000" spc="-1" strike="noStrike">
              <a:solidFill>
                <a:srgbClr val="000000"/>
              </a:solidFill>
              <a:latin typeface="Times New Roman"/>
            </a:endParaRPr>
          </a:p>
        </p:txBody>
      </p:sp>
      <p:sp>
        <p:nvSpPr>
          <p:cNvPr id="90" name=""/>
          <p:cNvSpPr/>
          <p:nvPr/>
        </p:nvSpPr>
        <p:spPr>
          <a:xfrm>
            <a:off x="8244000" y="4148280"/>
            <a:ext cx="2306520" cy="1135080"/>
          </a:xfrm>
          <a:prstGeom prst="rect">
            <a:avLst/>
          </a:prstGeom>
          <a:solidFill>
            <a:srgbClr val="871234"/>
          </a:solidFill>
          <a:ln w="0">
            <a:noFill/>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ormata RegularSC"/>
              </a:rPr>
              <a:t>PAM</a:t>
            </a:r>
            <a:endParaRPr b="0" lang="en-US" sz="4000" spc="-1" strike="noStrike">
              <a:solidFill>
                <a:srgbClr val="000000"/>
              </a:solidFill>
              <a:latin typeface="Times New Roman"/>
            </a:endParaRPr>
          </a:p>
        </p:txBody>
      </p:sp>
      <p:sp>
        <p:nvSpPr>
          <p:cNvPr id="91" name=""/>
          <p:cNvSpPr/>
          <p:nvPr/>
        </p:nvSpPr>
        <p:spPr>
          <a:xfrm>
            <a:off x="3228840" y="6956280"/>
            <a:ext cx="4784760" cy="734040"/>
          </a:xfrm>
          <a:prstGeom prst="rect">
            <a:avLst/>
          </a:prstGeom>
          <a:solidFill>
            <a:srgbClr val="007480"/>
          </a:solid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Formata RegularSC"/>
              </a:rPr>
              <a:t>Pressupostos</a:t>
            </a:r>
            <a:endParaRPr b="0" lang="en-US" sz="4200" spc="-1" strike="noStrike">
              <a:solidFill>
                <a:srgbClr val="000000"/>
              </a:solidFill>
              <a:latin typeface="Times New Roman"/>
            </a:endParaRPr>
          </a:p>
        </p:txBody>
      </p:sp>
      <p:sp>
        <p:nvSpPr>
          <p:cNvPr id="92" name=""/>
          <p:cNvSpPr/>
          <p:nvPr/>
        </p:nvSpPr>
        <p:spPr>
          <a:xfrm>
            <a:off x="5621400" y="2637000"/>
            <a:ext cx="0" cy="4179600"/>
          </a:xfrm>
          <a:prstGeom prst="line">
            <a:avLst/>
          </a:prstGeom>
          <a:ln w="76320">
            <a:solidFill>
              <a:srgbClr val="871234"/>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35480" y="4795920"/>
            <a:ext cx="4516200" cy="0"/>
          </a:xfrm>
          <a:prstGeom prst="line">
            <a:avLst/>
          </a:prstGeom>
          <a:ln w="76320">
            <a:solidFill>
              <a:srgbClr val="871234"/>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2923920" y="2984400"/>
            <a:ext cx="5465520" cy="3621960"/>
            <a:chOff x="2923920" y="2984400"/>
            <a:chExt cx="5465520" cy="3621960"/>
          </a:xfrm>
        </p:grpSpPr>
        <p:sp>
          <p:nvSpPr>
            <p:cNvPr id="95" name=""/>
            <p:cNvSpPr/>
            <p:nvPr/>
          </p:nvSpPr>
          <p:spPr>
            <a:xfrm flipV="1">
              <a:off x="3069720" y="2984400"/>
              <a:ext cx="1384560" cy="974880"/>
            </a:xfrm>
            <a:prstGeom prst="line">
              <a:avLst/>
            </a:prstGeom>
            <a:ln w="76320">
              <a:solidFill>
                <a:srgbClr val="871234"/>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004880" y="5631120"/>
              <a:ext cx="1384560" cy="975240"/>
            </a:xfrm>
            <a:prstGeom prst="line">
              <a:avLst/>
            </a:prstGeom>
            <a:ln w="76320">
              <a:solidFill>
                <a:srgbClr val="871234"/>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6713280" y="3053880"/>
              <a:ext cx="1384560" cy="974880"/>
            </a:xfrm>
            <a:prstGeom prst="line">
              <a:avLst/>
            </a:prstGeom>
            <a:ln w="76320">
              <a:solidFill>
                <a:srgbClr val="871234"/>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2923920" y="5631120"/>
              <a:ext cx="1384200" cy="975240"/>
            </a:xfrm>
            <a:prstGeom prst="line">
              <a:avLst/>
            </a:prstGeom>
            <a:ln w="76320">
              <a:solidFill>
                <a:srgbClr val="871234"/>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454640" y="3751200"/>
            <a:ext cx="2332080" cy="2094120"/>
            <a:chOff x="4454640" y="3751200"/>
            <a:chExt cx="2332080" cy="2094120"/>
          </a:xfrm>
        </p:grpSpPr>
        <p:sp>
          <p:nvSpPr>
            <p:cNvPr id="100" name=""/>
            <p:cNvSpPr/>
            <p:nvPr/>
          </p:nvSpPr>
          <p:spPr>
            <a:xfrm>
              <a:off x="4454640" y="3751200"/>
              <a:ext cx="2259000" cy="2094120"/>
            </a:xfrm>
            <a:prstGeom prst="ellipse">
              <a:avLst/>
            </a:prstGeom>
            <a:solidFill>
              <a:srgbClr val="f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54640" y="4312800"/>
              <a:ext cx="233208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Programes polítics de progrés</a:t>
              </a:r>
              <a:endParaRPr b="0" lang="en-US" sz="3200" spc="-1" strike="noStrike">
                <a:solidFill>
                  <a:srgbClr val="000000"/>
                </a:solidFill>
                <a:latin typeface="Times New Roman"/>
              </a:endParaRPr>
            </a:p>
          </p:txBody>
        </p:sp>
      </p:grpSp>
      <p:sp>
        <p:nvSpPr>
          <p:cNvPr id="102" name=""/>
          <p:cNvSpPr/>
          <p:nvPr/>
        </p:nvSpPr>
        <p:spPr>
          <a:xfrm>
            <a:off x="0" y="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03"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2</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06" name=""/>
          <p:cNvSpPr/>
          <p:nvPr/>
        </p:nvSpPr>
        <p:spPr>
          <a:xfrm>
            <a:off x="533520" y="1905120"/>
            <a:ext cx="10210680" cy="5715000"/>
          </a:xfrm>
          <a:prstGeom prst="rect">
            <a:avLst/>
          </a:prstGeom>
          <a:solidFill>
            <a:srgbClr val="b7bf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33520" y="1066680"/>
            <a:ext cx="10287000" cy="581400"/>
          </a:xfrm>
          <a:prstGeom prst="rect">
            <a:avLst/>
          </a:prstGeom>
          <a:solidFill>
            <a:srgbClr val="b7bf1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rmata RegularSC"/>
              </a:rPr>
              <a:t>Eix 1 : Persones</a:t>
            </a:r>
            <a:endParaRPr b="0" lang="en-US" sz="3200" spc="-1" strike="noStrike">
              <a:solidFill>
                <a:srgbClr val="000000"/>
              </a:solidFill>
              <a:latin typeface="Times New Roman"/>
            </a:endParaRPr>
          </a:p>
        </p:txBody>
      </p:sp>
      <p:sp>
        <p:nvSpPr>
          <p:cNvPr id="108" name=""/>
          <p:cNvSpPr/>
          <p:nvPr/>
        </p:nvSpPr>
        <p:spPr>
          <a:xfrm>
            <a:off x="5791320" y="2133720"/>
            <a:ext cx="4800600" cy="94644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3</a:t>
            </a:r>
            <a:endParaRPr b="0" lang="en-US" sz="1400" spc="-1" strike="noStrike">
              <a:solidFill>
                <a:srgbClr val="000000"/>
              </a:solidFill>
              <a:latin typeface="Times New Roman"/>
            </a:endParaRPr>
          </a:p>
        </p:txBody>
      </p:sp>
      <p:sp>
        <p:nvSpPr>
          <p:cNvPr id="110" name=""/>
          <p:cNvSpPr/>
          <p:nvPr/>
        </p:nvSpPr>
        <p:spPr>
          <a:xfrm>
            <a:off x="685800" y="2041560"/>
            <a:ext cx="9906120" cy="5426280"/>
          </a:xfrm>
          <a:prstGeom prst="rect">
            <a:avLst/>
          </a:prstGeom>
          <a:noFill/>
          <a:ln w="0">
            <a:noFill/>
          </a:ln>
        </p:spPr>
        <p:style>
          <a:lnRef idx="0"/>
          <a:fillRef idx="0"/>
          <a:effectRef idx="0"/>
          <a:fontRef idx="minor"/>
        </p:style>
        <p:txBody>
          <a:bodyPr lIns="90000" rIns="90000" tIns="46800" bIns="46800" anchor="t">
            <a:spAutoFit/>
          </a:bodyPr>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Formata Regular"/>
              </a:rPr>
              <a:t>Una ciutat cohesionada socialment i adaptada als canvis que s'han produït en els darrers anys, tant els que ha sofert l'organització familiar com els derivats del fenomen migratori. Una ciutat on la cultura, participativa, oberta i plural, actuï com a eina de vertebració social, d'enriquiment de les persones i com a instrument de formació permanent. Millorant alhora la qualitat de vida i el benestar de tota la ciutadania, garantint el desenvolupament de polítiques per a la igualtat, amb polítiques socials adreçades a les famílies, amb actuacions en l'àmbit de l'habitatge, amb la promoció de l'esport i la salut, l'atenció als col·lectius amb demandes específiques com ara la gent gran, els joves, les dones o les persones discapacitades. Impulsant el caràcter innovador i eficient dels serveis municipals i el procés de modernització de l'administració municipal per millorar l'atenció i proximitat a la ciutadania. Aprofundint en la implementació de nous mecanismes de participació i vetllant per preservar la seguretat ciutadana en uns anys decisius per a la concreció del model policial a Catalunya.</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13" name=""/>
          <p:cNvSpPr/>
          <p:nvPr/>
        </p:nvSpPr>
        <p:spPr>
          <a:xfrm>
            <a:off x="533520" y="1905120"/>
            <a:ext cx="4800600" cy="5715000"/>
          </a:xfrm>
          <a:prstGeom prst="rect">
            <a:avLst/>
          </a:prstGeom>
          <a:solidFill>
            <a:srgbClr val="b7bf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3520" y="1066680"/>
            <a:ext cx="10287000" cy="581400"/>
          </a:xfrm>
          <a:prstGeom prst="rect">
            <a:avLst/>
          </a:prstGeom>
          <a:solidFill>
            <a:srgbClr val="b7bf1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rmata RegularSC"/>
              </a:rPr>
              <a:t>Eix 1 : Persones</a:t>
            </a:r>
            <a:endParaRPr b="0" lang="en-US" sz="3200" spc="-1" strike="noStrike">
              <a:solidFill>
                <a:srgbClr val="000000"/>
              </a:solidFill>
              <a:latin typeface="Times New Roman"/>
            </a:endParaRPr>
          </a:p>
        </p:txBody>
      </p:sp>
      <p:sp>
        <p:nvSpPr>
          <p:cNvPr id="115" name=""/>
          <p:cNvSpPr/>
          <p:nvPr/>
        </p:nvSpPr>
        <p:spPr>
          <a:xfrm>
            <a:off x="380880" y="1981080"/>
            <a:ext cx="5029200" cy="563508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tenció a la infància i la famíli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Programa integral d'atenció a la infància i la família. Construcció i posada en funcionament del Centre Integral d'Atenció a la Infància de Mas Pintat. Creació de noves places d'escoles bressol. Posada en funcionament del programa "Ralet, rale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Formació</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Implementació de programes per a l'augment de l'èxit formatiu i la prevenció de l'absentisme escolar, i polítiques de formació ocupacion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Escola de pares i mar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Creació de l'escola de pares i mares (adreçada a les famílies amb fills i filles d'entre 0 i 18 anys), en coordinació amb els serveis municipals que treballen en aquest àmbit, els centres d'ensenyament i les AMP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Escolars d’altres cultur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Millora de l'acollida d'escolars provinents de famílies immigrades a les escoles i del servei de mediació cultur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Escoles municipals de les art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Creació d'escoles municipals de música, dansa, teatre i arts plàstiques.</a:t>
            </a:r>
            <a:endParaRPr b="0" lang="en-US" sz="1400" spc="-1" strike="noStrike">
              <a:solidFill>
                <a:srgbClr val="000000"/>
              </a:solidFill>
              <a:latin typeface="Times New Roman"/>
            </a:endParaRPr>
          </a:p>
        </p:txBody>
      </p:sp>
      <p:sp>
        <p:nvSpPr>
          <p:cNvPr id="116"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4</a:t>
            </a:r>
            <a:endParaRPr b="0" lang="en-US" sz="1400" spc="-1" strike="noStrike">
              <a:solidFill>
                <a:srgbClr val="000000"/>
              </a:solidFill>
              <a:latin typeface="Times New Roman"/>
            </a:endParaRPr>
          </a:p>
        </p:txBody>
      </p:sp>
      <p:sp>
        <p:nvSpPr>
          <p:cNvPr id="117" name=""/>
          <p:cNvSpPr/>
          <p:nvPr/>
        </p:nvSpPr>
        <p:spPr>
          <a:xfrm>
            <a:off x="6019920" y="1905120"/>
            <a:ext cx="4800600" cy="5715000"/>
          </a:xfrm>
          <a:prstGeom prst="rect">
            <a:avLst/>
          </a:prstGeom>
          <a:solidFill>
            <a:srgbClr val="b7bf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19920" y="1905120"/>
            <a:ext cx="4800600" cy="58482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ctivitats escolar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Programa municipal d'activitats no reglades, gestió de menjadors escolars i programes d'activitats en època de vacances escolar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lberg de joventu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Creació d'un alberg de joventut amb capacitat per acollir actes diverso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La festa a les escol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Implementació de programes educatius relacionats amb la festa i els diferents àmbits culturals. Treballar el calendari festiu a les escoles creant material didàctic específic per al professorat i implicant-hi els escolars. Definir programes educatius per a tots els àmbits de la cultura (museus com a instruments de formació, etc.).</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Pràctiques de salu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Activitat física, esport, promoció de la salut i lluita contra les patologies. Potenciar programes de promoció de la salut, lluita contra el tabaquisme, obesitat i altres patologies mèdiques mitjançant la pràctica de l'activitat física i esportiv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Pla de museu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Desplegament del Pla de museus.</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21" name=""/>
          <p:cNvSpPr/>
          <p:nvPr/>
        </p:nvSpPr>
        <p:spPr>
          <a:xfrm>
            <a:off x="533520" y="1905120"/>
            <a:ext cx="4800600" cy="5715000"/>
          </a:xfrm>
          <a:prstGeom prst="rect">
            <a:avLst/>
          </a:prstGeom>
          <a:solidFill>
            <a:srgbClr val="b7bf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520" y="1066680"/>
            <a:ext cx="10287000" cy="581400"/>
          </a:xfrm>
          <a:prstGeom prst="rect">
            <a:avLst/>
          </a:prstGeom>
          <a:solidFill>
            <a:srgbClr val="b7bf1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rmata RegularSC"/>
              </a:rPr>
              <a:t>Eix 1 : Persones</a:t>
            </a:r>
            <a:endParaRPr b="0" lang="en-US" sz="3200" spc="-1" strike="noStrike">
              <a:solidFill>
                <a:srgbClr val="000000"/>
              </a:solidFill>
              <a:latin typeface="Times New Roman"/>
            </a:endParaRPr>
          </a:p>
        </p:txBody>
      </p:sp>
      <p:sp>
        <p:nvSpPr>
          <p:cNvPr id="123" name=""/>
          <p:cNvSpPr/>
          <p:nvPr/>
        </p:nvSpPr>
        <p:spPr>
          <a:xfrm>
            <a:off x="533520" y="1981080"/>
            <a:ext cx="4724280" cy="555444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tenció la salu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Crear una comissió tècnica municipal per a la prevenció de la legionel·losi en l'àmbit de les instal·lacions de titularitat municipal. Assegurar la disponibilitat dels recursos humans, materials i econòmics suficients per garantir la resposta immediata davant situacions de risc per a la salut pública (brots epidèmics, plagues, etc.).</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tenció sociosanitàri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Suport professional per fer l'anàlisi i detectar les diferents situacions personals que requereixen una intervenció o plans d'atenció individualitzada en aquells casos en què no existeixi una resposta concreta per a la seva aplicació i coordinació amb els recursos existents. Disminució del temps d'espera de l'atenció a les àrees bàsiques de salu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tenció a la gent gran</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Promoure el creixement de recursos d'atenció social per a la població major de 65 anys, tant d'internament (residència assistida i habitatges tutelats) com ambulatoris (places de centre de dia i servei d'atenció domiciliària: teleassistència, càtering, neteja, bugaderia, acompanyament, etc.), incloent-hi el casal d'avis.</a:t>
            </a:r>
            <a:endParaRPr b="0" lang="en-US" sz="1400" spc="-1" strike="noStrike">
              <a:solidFill>
                <a:srgbClr val="000000"/>
              </a:solidFill>
              <a:latin typeface="Times New Roman"/>
            </a:endParaRPr>
          </a:p>
        </p:txBody>
      </p:sp>
      <p:sp>
        <p:nvSpPr>
          <p:cNvPr id="124"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5</a:t>
            </a:r>
            <a:endParaRPr b="0" lang="en-US" sz="1400" spc="-1" strike="noStrike">
              <a:solidFill>
                <a:srgbClr val="000000"/>
              </a:solidFill>
              <a:latin typeface="Times New Roman"/>
            </a:endParaRPr>
          </a:p>
        </p:txBody>
      </p:sp>
      <p:sp>
        <p:nvSpPr>
          <p:cNvPr id="125" name=""/>
          <p:cNvSpPr/>
          <p:nvPr/>
        </p:nvSpPr>
        <p:spPr>
          <a:xfrm>
            <a:off x="5943600" y="1905120"/>
            <a:ext cx="4800600" cy="5715000"/>
          </a:xfrm>
          <a:prstGeom prst="rect">
            <a:avLst/>
          </a:prstGeom>
          <a:solidFill>
            <a:srgbClr val="b7bf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1981080"/>
            <a:ext cx="4647960" cy="5799240"/>
          </a:xfrm>
          <a:prstGeom prst="rect">
            <a:avLst/>
          </a:prstGeom>
          <a:noFill/>
          <a:ln w="0">
            <a:noFill/>
          </a:ln>
        </p:spPr>
        <p:style>
          <a:lnRef idx="0"/>
          <a:fillRef idx="0"/>
          <a:effectRef idx="0"/>
          <a:fontRef idx="minor"/>
        </p:style>
        <p:txBody>
          <a:bodyPr lIns="90000" rIns="90000" tIns="46800" bIns="46800" anchor="t">
            <a:spAutoFit/>
          </a:bodyPr>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Observatori de la realitat de la gent gran</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Observatori permanent de la realitat de la gent gran a la ciutat: prospecció local/recollida d'informació de les necessitats/anàlisi de recursos. </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Ampliar i diversificar l'oferta de serveis d'assistència domiciliària integral per a la gent gran, establint sistemes de cofinançament per afavorir que les persones puguin envellir en el seu entorn natural, amb seguiment continuat de la qualitat del servei. </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Establir un servei d'atenció integral a domicili (bugaderia, suport a l'alimentació, teleassistència, etc.), amb gestió compartida entre l'Ajuntament i altres entitats o empreses (nous filons d'ocupació) i protocols d'actuació conjunta. </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Potenciar el voluntariat per evitar la solitud. Augmentar el nombre de places de centre de dia amb places per a les persones dependents. </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Crear programes d'autonomia assistida que potenciïn al màxim el grau d'independència de les persones més grans de vuitanta anys i al mateix temps rebin el màxim d'atenció possible per assegurar la millor qualitat de vida d'acord amb la seva voluntat i els recursos existents, propis i públics. </a:t>
            </a:r>
            <a:endParaRPr b="0" lang="en-US" sz="1400" spc="-1" strike="noStrike">
              <a:solidFill>
                <a:srgbClr val="000000"/>
              </a:solidFill>
              <a:latin typeface="Times New Roman"/>
            </a:endParaRPr>
          </a:p>
          <a:p>
            <a:pPr lvl="1" marL="190440"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Casal de jov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Casal de Joves.</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29" name=""/>
          <p:cNvSpPr/>
          <p:nvPr/>
        </p:nvSpPr>
        <p:spPr>
          <a:xfrm>
            <a:off x="533520" y="1905120"/>
            <a:ext cx="4800600" cy="5715000"/>
          </a:xfrm>
          <a:prstGeom prst="rect">
            <a:avLst/>
          </a:prstGeom>
          <a:solidFill>
            <a:srgbClr val="b7bf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1066680"/>
            <a:ext cx="10287000" cy="581400"/>
          </a:xfrm>
          <a:prstGeom prst="rect">
            <a:avLst/>
          </a:prstGeom>
          <a:solidFill>
            <a:srgbClr val="b7bf1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rmata RegularSC"/>
              </a:rPr>
              <a:t>Eix 1 : Persones</a:t>
            </a:r>
            <a:endParaRPr b="0" lang="en-US" sz="3200" spc="-1" strike="noStrike">
              <a:solidFill>
                <a:srgbClr val="000000"/>
              </a:solidFill>
              <a:latin typeface="Times New Roman"/>
            </a:endParaRPr>
          </a:p>
        </p:txBody>
      </p:sp>
      <p:sp>
        <p:nvSpPr>
          <p:cNvPr id="131" name=""/>
          <p:cNvSpPr/>
          <p:nvPr/>
        </p:nvSpPr>
        <p:spPr>
          <a:xfrm>
            <a:off x="685800" y="1981080"/>
            <a:ext cx="4572000" cy="584820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tenció hospitalària</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Establir, a partir de les necessitats creixents de la població amb malalties cròniques, per tal d'optimitzar la utilització dels recursos de l'Hospital Universitari de Sant Joan, el nombre adient de places sociosanitàries a la ciutat, ampliant-ne els recursos tant d'internament (llits de mitjana i llarga estada) com ambulatoris (places d'hospital de dia).</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Drogodependències</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Elaborar el pla municipal de prevenció de les drogodependències amb un pressupost propi per desenvolupar projectes i atendre emergències. Alhora, establir programes de rehabilitació social, com el foment de la contractació de joves en desintoxicació. Impulsar la creació de llars tutelades. Potenciar les polítiques de lluita contra la marginació i els factors que l'afavoreixen, especialment en relació a les problemàtiques de les drogodependències i la sida.</a:t>
            </a:r>
            <a:endParaRPr b="0" lang="en-US" sz="14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Salut ment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Atenció a la salut mental: atenció i suport als menors i joves i les seves famílies que es trobin en situacions de risc.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6</a:t>
            </a:r>
            <a:endParaRPr b="0" lang="en-US" sz="1400" spc="-1" strike="noStrike">
              <a:solidFill>
                <a:srgbClr val="000000"/>
              </a:solidFill>
              <a:latin typeface="Times New Roman"/>
            </a:endParaRPr>
          </a:p>
        </p:txBody>
      </p:sp>
      <p:sp>
        <p:nvSpPr>
          <p:cNvPr id="133" name=""/>
          <p:cNvSpPr/>
          <p:nvPr/>
        </p:nvSpPr>
        <p:spPr>
          <a:xfrm>
            <a:off x="5943600" y="1905120"/>
            <a:ext cx="4800600" cy="5715000"/>
          </a:xfrm>
          <a:prstGeom prst="rect">
            <a:avLst/>
          </a:prstGeom>
          <a:solidFill>
            <a:srgbClr val="b7bf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19920" y="1905120"/>
            <a:ext cx="4647960" cy="606132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tenció i suport a les don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Crear un servei d'atenció i intervenció integral per a les dones (i homes, si es dóna el cas) que pateixen algun tipus de maltractament, amb un gabinet d'atenció exclusiva per tractar aquest problema.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Potenciar campanyes informatives dels serveis existents per atendre els casos de maltractaments físics i psicològics i les agressions i l'assetjament sexual.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Ampliar el servei de la Unitat d'Atenció a la Dona oferint també un servei de guàrdia de 24 hores, a través del telèfon i presencial, per a casos d'emergència.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Donar una assistència integral i de qualitat a les dones i a les famílies en la vessant reproductiva sexual i mèdica en general.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Crear un punt d'atenció a la víctima amb tres línies d'atenció: informació/orientació, assessorament i acollida; suport psicològic quan sigui necessari; i aplicació de recursos de refugi temporal a la ciutat o fora de la ciutat.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Continuar la promoció de la formació continuada de la Guàrdia Urbana en matèries de temàtica penal, gènere, relació amb les persones i atenció ciutadana. Treballar programes transversals que combinin accions policials amb polítiques de cohesió social.</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37" name=""/>
          <p:cNvSpPr/>
          <p:nvPr/>
        </p:nvSpPr>
        <p:spPr>
          <a:xfrm>
            <a:off x="533520" y="1905120"/>
            <a:ext cx="4800600" cy="5715000"/>
          </a:xfrm>
          <a:prstGeom prst="rect">
            <a:avLst/>
          </a:prstGeom>
          <a:solidFill>
            <a:srgbClr val="b7bf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33520" y="1066680"/>
            <a:ext cx="10287000" cy="581400"/>
          </a:xfrm>
          <a:prstGeom prst="rect">
            <a:avLst/>
          </a:prstGeom>
          <a:solidFill>
            <a:srgbClr val="b7bf1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Formata RegularSC"/>
              </a:rPr>
              <a:t>Eix 1 : Persones</a:t>
            </a:r>
            <a:endParaRPr b="0" lang="en-US" sz="3200" spc="-1" strike="noStrike">
              <a:solidFill>
                <a:srgbClr val="000000"/>
              </a:solidFill>
              <a:latin typeface="Times New Roman"/>
            </a:endParaRPr>
          </a:p>
        </p:txBody>
      </p:sp>
      <p:sp>
        <p:nvSpPr>
          <p:cNvPr id="139" name=""/>
          <p:cNvSpPr/>
          <p:nvPr/>
        </p:nvSpPr>
        <p:spPr>
          <a:xfrm>
            <a:off x="609480" y="1981080"/>
            <a:ext cx="4648320" cy="58482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Hospital Universitari de Sant Joan</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Realitzar un estudi acurat sobre l'ampliació o reubicació de l'Hospital de Sant Joan, tenint en compte d'instal·lar aquest equipament en la zona que ofereixi les millors garanties en l'optimització de la inversió econòmica, aixi com les millores que aquesta nova ubicació suposaria per a la ciutadania en general respecte als serveis que es presten en l'actualitat i els que s'hauran de prestar en el futur.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r>
              <a:rPr b="0" lang="ca-ES" sz="1400" spc="-1" strike="noStrike">
                <a:solidFill>
                  <a:srgbClr val="000000"/>
                </a:solidFill>
                <a:latin typeface="Tahoma"/>
              </a:rPr>
              <a:t>Construcció del nou hospital. </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Casal de done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Crear un casal de dones. La fórmula de gestió que es proposa és la cogestió, ja que permet la independència i alhora el treball entre les dones i els serveis municipal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Fototeca municip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Fototeca Municipal. Rehabilitació del Mas Iglésias com a seu de l'arxiu fotogràfic, documental i artístic de la ciutat de Reu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useu d’Art i Història</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Ampliació del Museu d'Art i Història de Reus amb la incorporació de Cal Rofes a les instal·lacions de la plaça de la Llibertat.</a:t>
            </a:r>
            <a:endParaRPr b="0" lang="en-US" sz="1400" spc="-1" strike="noStrike">
              <a:solidFill>
                <a:srgbClr val="000000"/>
              </a:solidFill>
              <a:latin typeface="Times New Roman"/>
            </a:endParaRPr>
          </a:p>
        </p:txBody>
      </p:sp>
      <p:sp>
        <p:nvSpPr>
          <p:cNvPr id="140"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7</a:t>
            </a:r>
            <a:endParaRPr b="0" lang="en-US" sz="1400" spc="-1" strike="noStrike">
              <a:solidFill>
                <a:srgbClr val="000000"/>
              </a:solidFill>
              <a:latin typeface="Times New Roman"/>
            </a:endParaRPr>
          </a:p>
        </p:txBody>
      </p:sp>
      <p:sp>
        <p:nvSpPr>
          <p:cNvPr id="141" name=""/>
          <p:cNvSpPr/>
          <p:nvPr/>
        </p:nvSpPr>
        <p:spPr>
          <a:xfrm>
            <a:off x="5943600" y="1905120"/>
            <a:ext cx="4800600" cy="5715000"/>
          </a:xfrm>
          <a:prstGeom prst="rect">
            <a:avLst/>
          </a:prstGeom>
          <a:solidFill>
            <a:srgbClr val="b7bf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5880" y="1981080"/>
            <a:ext cx="4572000" cy="563508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Persones amb discapacitats</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Establir acords i convenis de col·laboració amb les organitzacions representatives de les persones amb discapacitats per a la prestació de serveis domiciliaris, transport adaptat, promoció de sistemes d'accés a la llar, d'acord amb les circumstàncies personals i econòmiques d'aquestes persones. Potenciar la creació d'un projecte d'inserció laboral de seguiment i tutoria a les empreses (més suport personal).</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Educació per a la salut</a:t>
            </a:r>
            <a:endParaRPr b="0" lang="en-US" sz="1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Impulsar els programes d'educació per a la salut per tal de desenvolupar hàbits saludables en les diferents edats (embarassades, lactants, nadons, infants, adolescents, joves, famílies i gent gran) en els temes relacionats amb l'alimentació, les drogo-dependències, la sexualitat, la sida, la prevenció dels accidents, l'esport, etc. (activitats del programa d'Educació per a la salut, Escola de Pares i Mares de l'Institut Municipal de Puericultura Dr. Frias, etc.). Crear un espai de treball amb les famílies. Crear un espai de consulta sobre educació per a la salut a la biblioteca pública. Revisar els materials actuals d'educació per a la salut i fer-ne de nous.</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11315880" cy="8001000"/>
          </a:xfrm>
          <a:prstGeom prst="rect">
            <a:avLst/>
          </a:prstGeom>
          <a:solidFill>
            <a:srgbClr val="f0f5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0" y="76320"/>
            <a:ext cx="1131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89a0"/>
                </a:solidFill>
                <a:latin typeface="Formata RegularSC"/>
              </a:rPr>
              <a:t>El Pla d’Acció Municipal 2003-2007</a:t>
            </a:r>
            <a:endParaRPr b="0" lang="en-US" sz="4800" spc="-1" strike="noStrike">
              <a:solidFill>
                <a:srgbClr val="000000"/>
              </a:solidFill>
              <a:latin typeface="Times New Roman"/>
            </a:endParaRPr>
          </a:p>
        </p:txBody>
      </p:sp>
      <p:sp>
        <p:nvSpPr>
          <p:cNvPr id="145" name=""/>
          <p:cNvSpPr/>
          <p:nvPr/>
        </p:nvSpPr>
        <p:spPr>
          <a:xfrm>
            <a:off x="533520" y="1905120"/>
            <a:ext cx="10210680" cy="5715000"/>
          </a:xfrm>
          <a:prstGeom prst="rect">
            <a:avLst/>
          </a:prstGeom>
          <a:solidFill>
            <a:srgbClr val="8712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3520" y="1066680"/>
            <a:ext cx="10287000" cy="581400"/>
          </a:xfrm>
          <a:prstGeom prst="rect">
            <a:avLst/>
          </a:prstGeom>
          <a:solidFill>
            <a:srgbClr val="871234"/>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ormata RegularSC"/>
              </a:rPr>
              <a:t>Eix 2 : Ciutat</a:t>
            </a:r>
            <a:endParaRPr b="0" lang="en-US" sz="3200" spc="-1" strike="noStrike">
              <a:solidFill>
                <a:srgbClr val="000000"/>
              </a:solidFill>
              <a:latin typeface="Times New Roman"/>
            </a:endParaRPr>
          </a:p>
        </p:txBody>
      </p:sp>
      <p:sp>
        <p:nvSpPr>
          <p:cNvPr id="147" name=""/>
          <p:cNvSpPr/>
          <p:nvPr/>
        </p:nvSpPr>
        <p:spPr>
          <a:xfrm>
            <a:off x="685800" y="1981080"/>
            <a:ext cx="982980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Formata Regular"/>
              </a:rPr>
              <a:t>Continuar la renovació física de la ciutat aprofundint en el model mediterrani de ciutat compacta i complexa, on la pluralitat i la diversitat de les persones i de les activitats interaccionin en un mateix espai, dibuixant una ciutat més sostenible i que aporti una major qualitat de vida als seus habitants. Amb projectes de desenvolupament urbà en el marc de les quatre grans anelles de la ciutat, amb polítiques d'habitatge que donin resposta a les necessitats de les persones en aquest àmbit i amb actuacions pel que fa a la mobilitat que afavoreixin els desplaçament a peu, en bicicleta i en transport públic. </a:t>
            </a:r>
            <a:endParaRPr b="0" lang="en-US" sz="2400" spc="-1" strike="noStrike">
              <a:solidFill>
                <a:srgbClr val="000000"/>
              </a:solidFill>
              <a:latin typeface="Times New Roman"/>
            </a:endParaRPr>
          </a:p>
        </p:txBody>
      </p:sp>
      <p:sp>
        <p:nvSpPr>
          <p:cNvPr id="148" name=""/>
          <p:cNvSpPr/>
          <p:nvPr/>
        </p:nvSpPr>
        <p:spPr>
          <a:xfrm>
            <a:off x="10672920" y="7466400"/>
            <a:ext cx="4521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71234"/>
                </a:solidFill>
                <a:latin typeface="Formata Regular"/>
              </a:rPr>
              <a:t>8</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7:56:05Z</dcterms:created>
  <dc:creator>***</dc:creator>
  <dc:description/>
  <dc:language>en-US</dc:language>
  <cp:lastModifiedBy>***</cp:lastModifiedBy>
  <cp:lastPrinted>2004-01-28T08:23:46Z</cp:lastPrinted>
  <dcterms:modified xsi:type="dcterms:W3CDTF">2004-01-28T08:31:10Z</dcterms:modified>
  <cp:revision>52</cp:revision>
  <dc:subject/>
  <dc:title>Sin título de diapositiva</dc:title>
</cp:coreProperties>
</file>